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0FEFFE-EF9F-43B3-956D-6967C7FE2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74680" y="695160"/>
            <a:ext cx="463572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we ask ourselves and </a:t>
            </a:r>
            <a:r>
              <a:rPr b="0" i="1" lang="en-US" sz="1400" spc="-1" strike="noStrike">
                <a:solidFill>
                  <a:srgbClr val="000000"/>
                </a:solidFill>
                <a:latin typeface="Times New Roman"/>
              </a:rPr>
              <a:t>you</a:t>
            </a:r>
            <a:r>
              <a:rPr b="0" lang="en-US" sz="1400" spc="-1" strike="noStrike">
                <a:solidFill>
                  <a:srgbClr val="000000"/>
                </a:solidFill>
                <a:latin typeface="Times New Roman"/>
              </a:rPr>
              <a:t> might ask </a:t>
            </a:r>
            <a:r>
              <a:rPr b="0" i="1" lang="en-US" sz="1400" spc="-1" strike="noStrike">
                <a:solidFill>
                  <a:srgbClr val="000000"/>
                </a:solidFill>
                <a:latin typeface="Times New Roman"/>
              </a:rPr>
              <a:t>yourself</a:t>
            </a:r>
            <a:r>
              <a:rPr b="0" lang="en-US" sz="1400" spc="-1" strike="noStrike">
                <a:solidFill>
                  <a:srgbClr val="000000"/>
                </a:solidFill>
                <a:latin typeface="Times New Roman"/>
              </a:rPr>
              <a:t> is: </a:t>
            </a:r>
            <a:r>
              <a:rPr b="1" lang="en-US" sz="1400" spc="-1" strike="noStrike">
                <a:solidFill>
                  <a:srgbClr val="000000"/>
                </a:solidFill>
                <a:latin typeface="Times New Roman"/>
              </a:rPr>
              <a:t>How</a:t>
            </a:r>
            <a:r>
              <a:rPr b="0" lang="en-US" sz="1400" spc="-1" strike="noStrike">
                <a:solidFill>
                  <a:srgbClr val="000000"/>
                </a:solidFill>
                <a:latin typeface="Times New Roman"/>
              </a:rPr>
              <a:t> might we build these “rich veins of connectivity” and the “extraordinary and disproportionate power” these relationships have for energizing change? How do we translate these complex ideas into practical action?  (Reeves, 3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the intention that the resources and tools being developed will facilitate professional conversations that enable us to move toward shared goal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4680" y="695160"/>
            <a:ext cx="463572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was developed by the Leadership Development Branch of the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74680" y="695160"/>
            <a:ext cx="463572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builds coherence by building connections and convergences through shared vision and language, and by clarifying the practices and competencies necessary to effective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74680" y="695160"/>
            <a:ext cx="463572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domains are neither discrete nor hierarchical. While all five are relevant to the resources we are developing, “Leading the instructional program” is the domain which our supports most solidly suppor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74680" y="695160"/>
            <a:ext cx="463572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of the Leadership Framework is described by these interrelated and nested components. Anyone concerned with developing literacy skills knows that beliefs influence one’s acquisition of knowledge, that prior knowledge is necessary to develop skills, and that skills are integrated into contextualized practic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74680" y="695160"/>
            <a:ext cx="463572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ources—developed in our branch, hard copy in your binder, web-based, and in development to which we’ll refer in a moment--are intended to address these practical questions pertaining to the Domain “Leading the Instructional Program”. Through the lenses of Mathematical Learning and Literacy—in all subjects—the resources suggest ways of answering these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lk about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liefs and guiding principles do we need to embra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74680" y="695160"/>
            <a:ext cx="463572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igh degree of consensus in research studies about </a:t>
            </a:r>
            <a:r>
              <a:rPr b="1" lang="en-US" sz="1200" spc="-1" strike="noStrike">
                <a:solidFill>
                  <a:srgbClr val="000000"/>
                </a:solidFill>
                <a:latin typeface="Times New Roman"/>
              </a:rPr>
              <a:t>the importance of focusing primarily on improving instruction, and on providing resources devoted to coherent professional development linked to research-based practices</a:t>
            </a:r>
            <a:r>
              <a:rPr b="0" lang="en-US" sz="1200" spc="-1" strike="noStrike">
                <a:solidFill>
                  <a:srgbClr val="000000"/>
                </a:solidFill>
                <a:latin typeface="Times New Roman"/>
              </a:rPr>
              <a:t>. This is our sixth enabling par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eves points out: “…there is an enormous gap between professional development about effective teaching practices and the actual implementation of those practices” (100). These resources are intended to support administrators address the knowing-doing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74680" y="695160"/>
            <a:ext cx="463572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itles of the two key resources we’re describing. Though you will not need to refer to them now, these are printed and should be in your bi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not checklists nor criteria for evaluation. While they might contribute to planning and processes, they are primarily intended to support implementation, execution” and informal monitoring of the needs for supports.” (Reeves, 62) These are for action—including professional conversation and learn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74680" y="695160"/>
            <a:ext cx="463572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are intended to provide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coherent, stable and shared understanding of what promising literacy practices look like in the classroom. By this we mean any classroom—though the core of indicators is stable and must be addressed, the priorities, configurations, contexts and content will shift slightly in each disciplin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level verbal description of evidence to which we can attach concrete, practical and illustrative resources such as video and implementation continu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tarting point for going deeper with research. These descriptions, while in a certain sense are non-negotiable, are intended, not to be reductive or literal, but rather to cue us to complex understanding—the way any well written text serves as a well-framed doorway to possibilitie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rsation starters for professional discussion and learning between classroom teachers, administrators and other facilitators of teachers’ learning. These indicators and sample evidence are founded on an interconnected series of research projects, they are rich, and warrant professional dialogu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resources will be informed by ongoing research and continued consultation with stakeholders. Their release will be staged, so that subject-specific versions can be developed in consultation with subject specialists and tied to curriculum revision, and so that solid research on specific components can be fully develop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4680" y="695160"/>
            <a:ext cx="463572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look closely at the Indicators for Literacies for Learning and Mathematics, you will notice that the indicators are organized under several heading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rriculu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ssment and Evalu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 and Learning Tool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Pract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headings are neither arbitrary nor merely convenient; they are the result of a long process of research and consultation. They are aligned with Ministry documents, current educational research, and the positions of major educational organizations. To use our complex system metaphor, these are nodes of connectivity where maximum number of connections intersect. They are the nodes in a high-level concept map. They are our best efforts to identify meaningful structural points of reference. These speak strongly to the connections between research and practice, coherence and clarity, and collective responsib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 indicators permeate all other categories of indicators; they have been pulled out and given prominence because literacy is, fundamentally, an equity issue. In other words, the indicators not only identify reference points for professional responsibility; they also speak to what Michael Fullan terms, our moral purpo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also notice, if you juxtapose the Literacies for Learning and Mathematics documents, that these are closely aligned. The Equity indicators you see right now are almost verbati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74680" y="695160"/>
            <a:ext cx="463572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lcome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hope that you are energized by the depth, breadth, convergences and possibilities of what you have seen and heard toda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4680" y="695160"/>
            <a:ext cx="463572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example that illustrates not only the alignment and cohesion among documents, but also the priorities and emphases. This indicator, for example, underlines research in strategy instruction that indicates unequivocably that there are conditions in which strategy instruction is effective. Those conditions include systematic, consistent and explicit implementation of the strategy and an intentional use that results from meta-cognitive understand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4680" y="695160"/>
            <a:ext cx="463572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ligned indicators suggest that in addition to using a strategy consistently enough to develop an effective level of use, educators need to understand that strategies are neither interchangeable nor arbitrary. Effective selection of strategies depends on matching the strategy’s structure, skills, and concepts to the curriculum’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4680" y="695160"/>
            <a:ext cx="463572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you were to compare the Mathematics indicators with English (not Literacy) indicators, you will see that there are critical indicators that are subject-specific—as, for example, the examples above. Developing math sense is essential for math, whereas an increasingly inclusive concept of text is central to English.  In short, as we move toward deeper understanding and precision, we need to differentiate, or personalize, high-level indicators. </a:t>
            </a:r>
            <a:r>
              <a:rPr b="1" lang="en-US" sz="1200" spc="-1" strike="noStrike">
                <a:solidFill>
                  <a:srgbClr val="000000"/>
                </a:solidFill>
                <a:latin typeface="Times New Roman"/>
              </a:rPr>
              <a:t>Depth, precision, and personalization are a familiar enabling parame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4680" y="695160"/>
            <a:ext cx="463572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losely aligned indicators signal a significant trend toward supporting higher order thinking for every student—and providing whatever scaffolding is required to support students’ succ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4680" y="695160"/>
            <a:ext cx="463572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and this is linked to the need for depth and precision—research suggests that indicators should reflect differences in disciplines. In this Math indicator, for example, respect for the technological and digital literacies of students is firmly contextualized by the Math curriculu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4680" y="695160"/>
            <a:ext cx="463572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like the Math and Literacy Agendas for Action are intended to frame and guide our work for the next decade. During this time, we expect that professional experience and research will continue to inform and refine our understanding, and that our conceptions of literacy will continue to evolv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you are seeing in the breakout sessions, we are developing records of practice, such as video, that will anchor these verbal descriptions in local contexts and tangible evidence. These records of practice are not random; they are purposeful and grounded in research. They capture succinctly points of reference for the indicators. As we move forward in collecting records of practice, we will be increasingly strategic about which indicators will be captured and which need to be supported in the field. So, the records of practice you are seeing are connected to these resources for lead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curricula come up for revision through the revision cycle, we will continue to engage in rich and essential conversations with subject-specialists about what literacy looks like in that discipline. We hope that articulating this understanding will support teachers in developing a pedagogy of literac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strategy instruction is strongly supported by research, simply using a strategy to engage students in content in insufficient. A pedagogy of literacy moves us toward structural embedding of literacies in each discipline. This will also enable us to concentrate on the hard, long work of implementation. We say long, because implementation models suggest that it requires 3-5 years of consistent, thoughtful strategy implementation to reach a routine level of use. The Indicators, records of practice, and the development process of these will support the implementation pro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4680" y="695160"/>
            <a:ext cx="463572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implementation is everything, we hope also that the indicators will inspire both small r and big R research, like the research that resulted in the Math-Talk Community implementation continuum, which is on your memory st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 and Garmston (in Garmston and Wellman, 9) point out that “High-performing individuals and groups strive for mastery and improvement. They persevere to resolve differences between present and desired states. They create, hold, calibrate, and refine standards of excellence. They seek elegance. They strive for precision in language and thought.” It is our intention that continua developed through research will be solid enough to support our desire to do better what we already do well, to provoke reflection and conversation, and self-assess and to set ever higher profession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morning’s session, supporting Administrators as Collaborative Instructional Leaders for Today’s Classroom will take an indepth look at the uses of records of practice and provide some practice in using thi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4680" y="695160"/>
            <a:ext cx="463572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ein, one of the resources in development right now include Conversation Starters (Question Prompts) for professional conversations. These will be web-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use of these resources requires an ethos of trust and a culture of collaboration (Coleman and Laroque, in Maguire, 20). Campbell and Greene write that: “Providing direction for the district … includes…creating a climate that makes possible the achievement of excellence in the system” (in Land, 3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Fullan asserts that “high trust districts” “make the extraordinary possible, energizing people and giving them the wherewithal to be successful under enormously demanding conditions—and the confidence that staying the course will pay off” (73, in Leadership Self-Review Tool – An Overview of the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relationships, relationships,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4680" y="695160"/>
            <a:ext cx="463572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yk and Schnieder write: “Each party in a relationship maintains an understanding of his or her role’s obligation and holds some expectations about the obligations of the other parties. For a school community to work well, it must achieve agreement in each role relationship in terms of the understandings held about these personal obligations and expectations of others…Relational trust is grounded in the social respect that comes from the kinds of social discourse that take place across the school community.” </a:t>
            </a:r>
            <a:r>
              <a:rPr b="1" lang="en-US" sz="1200" spc="-1" strike="noStrike">
                <a:solidFill>
                  <a:srgbClr val="000000"/>
                </a:solidFill>
                <a:latin typeface="Times New Roman"/>
              </a:rPr>
              <a:t>It is our intention that these resources support the development of relational trust and the respectful social and professional discourse that builds community and collec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74680" y="695160"/>
            <a:ext cx="463572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know that moving forward is a first step. We know that the power to effect significant improvements with respect to the Ministry’s priorities will result from the energy and momentum that derive from integrated and cohesive efforts to achieve a shared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our attention has been directed firmly to promising practices, both in the classroom and in professional learning dynamics, as a means of reaching the provincial goals established by the Ministry of Education. These practices are characterized by depth and breadth, precision and multiple interconnections. It is these attributes that provide momentum, that re-energ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4680" y="695160"/>
            <a:ext cx="463572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se web-based resources will include links to relevant literacy strategies and excerpts from the research. As a principal commented in one of our consultation sessions: This gives me something concrete that I can use right awa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4680" y="695160"/>
            <a:ext cx="463572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will also include references to curriculum documents and excerpts from pertinent Ministry resources, such as Think Literacy Succes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5160"/>
            <a:ext cx="463572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our plans are ambitious, but grounded. We expect no less than to reach (as Mike Hardt has been heard to say) from shoes to the stars—in ten years—and to energize educators to build networks and professional learning resources of a global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our keynote speakers continue to stretch our understanding of what is possible. They take us to the heart and horizon of these matters. Paul Costa and Bill Mackenzie look deep into data, inspiring us with humane and transformational possibilities. Will Richardson’s vision will inspire us to re-envision education and embrace powerful the potential of glob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our momentum will not slow—for that reason, we have scheduled breakfast for 7:30 a.m. The morning plenary begin at 8:30 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4680" y="695160"/>
            <a:ext cx="463572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ing practices shared with you earlier today are connected to and supported by school administrators, staff at the board level, and, sometimes, researchers from Faculties of Education. This is an important enabling parameter, to use the language of complexity theory: </a:t>
            </a:r>
            <a:r>
              <a:rPr b="1" lang="en-US" sz="1200" spc="-1" strike="noStrike">
                <a:solidFill>
                  <a:srgbClr val="000000"/>
                </a:solidFill>
                <a:latin typeface="Times New Roman"/>
              </a:rPr>
              <a:t>Promising Practices thrive in a complex network of nested and supportive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large and evolving body of research on leadership tells us—and this is our second enabling parameter—that </a:t>
            </a:r>
            <a:r>
              <a:rPr b="1" i="1" lang="en-US" sz="1200" spc="-1" strike="noStrike">
                <a:solidFill>
                  <a:srgbClr val="000000"/>
                </a:solidFill>
                <a:latin typeface="Times New Roman"/>
              </a:rPr>
              <a:t>leadership</a:t>
            </a:r>
            <a:r>
              <a:rPr b="1" lang="en-US" sz="1200" spc="-1" strike="noStrike">
                <a:solidFill>
                  <a:srgbClr val="000000"/>
                </a:solidFill>
                <a:latin typeface="Times New Roman"/>
              </a:rPr>
              <a:t> is critical , directly and indirectly, to the ongoing professional learning and refinement of practice that impacts students’ engagement and achieve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74680" y="695160"/>
            <a:ext cx="463572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irst day of our Symposium draws to a close, we’d like to focus </a:t>
            </a:r>
            <a:r>
              <a:rPr b="1" lang="en-US" sz="1200" spc="-1" strike="noStrike">
                <a:solidFill>
                  <a:srgbClr val="000000"/>
                </a:solidFill>
                <a:latin typeface="Times New Roman"/>
              </a:rPr>
              <a:t>on a new depth of support</a:t>
            </a:r>
            <a:r>
              <a:rPr b="0" lang="en-US" sz="1200" spc="-1" strike="noStrike">
                <a:solidFill>
                  <a:srgbClr val="000000"/>
                </a:solidFill>
                <a:latin typeface="Times New Roman"/>
              </a:rPr>
              <a:t> for Administrators and other Facilitators of teachers’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74680" y="695160"/>
            <a:ext cx="463572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teaching is multivariate—because there are multiple rather than single cause-effect variables to consider--</a:t>
            </a:r>
            <a:r>
              <a:rPr b="1" lang="en-US" sz="900" spc="-1" strike="noStrike">
                <a:solidFill>
                  <a:srgbClr val="000000"/>
                </a:solidFill>
                <a:latin typeface="Times New Roman"/>
              </a:rPr>
              <a:t>influences on the conditions of teaching and learning are complex and non-line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remember this image of complex relationships from this morning’s plenary. Imagine that this image represents a human network—perhaps the network of teachers, administrators, stakeholders, and researchers in your board. Each node, or intersection point, which might represent an individual or a group, links, or relates, to other nod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ug Reeves notes that complex systems like this are “full of energy; they interact with the environment; they are open. Indeed, their existence and resilience depend on having energy and room for change.” (152) It is the clarity with which we see and act in complex systems that can energize u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eves notes that some nodes are connected to a few other nodes, whereas some nodes serve “as rich veins of connectivity”. The nodes—individuals or groups--at the center of numerous connections “have extraordinary and disproportionate power”. This, as Reeves points out, is one of the ideas in Malcolm Gladwell’s The Tipping Point. It adds fuel to Michael Fullan’s comment that it’s all about relationship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our fourth enabling parameter: It is through </a:t>
            </a:r>
            <a:r>
              <a:rPr b="1" lang="en-US" sz="900" spc="-1" strike="noStrike">
                <a:solidFill>
                  <a:srgbClr val="000000"/>
                </a:solidFill>
                <a:latin typeface="Times New Roman"/>
              </a:rPr>
              <a:t>rich points of interconnectedness and relationship that change occurs</a:t>
            </a:r>
            <a:r>
              <a:rPr b="0" lang="en-US" sz="900" spc="-1" strike="noStrike">
                <a:solidFill>
                  <a:srgbClr val="000000"/>
                </a:solidFill>
                <a:latin typeface="Times New Roman"/>
              </a:rPr>
              <a:t>. We require the energy generated by connectors at all levels of the system. You might ask yourself, Am I a connect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74680" y="695160"/>
            <a:ext cx="463572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the critical role of leaders in education and the need for cohesive and coherent strategies, the Ministry has made a commitment to a number of initiatives intended to develop, support and sustain the highest quality leadership possible in schools and districts across the provin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se initiatives is the establishment and promotion of a common Leadership Framework. This Leadership Framework describes a set of core leadership competencies and effective practices for principals, vice-principals and supervisory officers that have been shown to be effective in improving student achiev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appreciate, great efforts are being made to connect all initiatives in ways that strengthen and energize our collective efforts. The Leadership Framework positions administrators in a dynamic network of educational relationships in which they play a critical role. The resources we have been developing are intended to provide practical—but not superficial—tools to support principals, vice-principals, and supervisory offic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74680" y="695160"/>
            <a:ext cx="463572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is by Marshall Clemens, an artist and photographer who does “ hybrid” consulting, most recently with the government in the UK o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mens’ work involves developing images to articulate complex systems. This image shows, not only nodes with multiple points of connectivity at each level, but also the interconnectedness and interpenetration between nested levels. This image captures the dynamic, iterative movement from strings and quarks (at the bottom) to groups of species and the environment (at the top). All at once, it captures multiple relationships and inter-relationships, deep nesting and precision, breadth of vision and co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valent theme current in the literature of numerous disciplines is that traditional categories are breaking down, boundaries are permeable, border crossings are frequent. Our concern with environmental science speaks to our awareness that all parts of a system at all levels of the system are interconnected and interdependent. Clemens Marshall’s business is hybrid consultations. Don Tapscott  writes about how youth use technology to connect. Gomez-Pena, the activist artist often studied in curriculum studies, asserts that we don’t merely cross borders: rather, the borderlands, the areas of relationship and permeability are where we 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74680" y="695160"/>
            <a:ext cx="463572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you present at the September 07 Student Success Leader Symposium may recall this handout, which showed nested Agendas for Action aligned at the Ministry, Ministry Initiative, Board, School, and Classroom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ignment implies that educators at all levels sh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sion of where we’re go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language for talking about that vision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ve responsibility for the practical how’s of</a:t>
            </a:r>
            <a:r>
              <a:rPr b="1" lang="en-US" sz="1200" spc="-1" strike="noStrike">
                <a:solidFill>
                  <a:srgbClr val="000000"/>
                </a:solidFill>
                <a:latin typeface="Times New Roman"/>
              </a:rPr>
              <a:t> </a:t>
            </a:r>
            <a:r>
              <a:rPr b="0" lang="en-US" sz="1200" spc="-1" strike="noStrike">
                <a:solidFill>
                  <a:srgbClr val="000000"/>
                </a:solidFill>
                <a:latin typeface="Times New Roman"/>
              </a:rPr>
              <a:t>getting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ified 2-dimensional image needs to be read as a system—though instead of an ecological network we suggest a system of energy with its attractors and tensions—in which all parts are interrelated in complex, dynamic, synergistic and rigorous ways. Everything is defined by its relationship to everything else. The lines mark not borders, but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agenda columns dynamically related to and dependent upon the other columns, each level of the system is dynamically related to every other level. </a:t>
            </a:r>
            <a:r>
              <a:rPr b="1" lang="en-US" sz="1200" spc="-1" strike="noStrike">
                <a:solidFill>
                  <a:srgbClr val="000000"/>
                </a:solidFill>
                <a:latin typeface="Times New Roman"/>
              </a:rPr>
              <a:t>The </a:t>
            </a:r>
            <a:r>
              <a:rPr b="1" lang="en-US" sz="1200" spc="-1" strike="noStrike" u="sng">
                <a:solidFill>
                  <a:srgbClr val="000000"/>
                </a:solidFill>
                <a:uFillTx/>
                <a:latin typeface="Times New Roman"/>
              </a:rPr>
              <a:t>necessary</a:t>
            </a:r>
            <a:r>
              <a:rPr b="1" lang="en-US" sz="1200" spc="-1" strike="noStrike">
                <a:solidFill>
                  <a:srgbClr val="000000"/>
                </a:solidFill>
                <a:latin typeface="Times New Roman"/>
              </a:rPr>
              <a:t> interconnectedness between levels is our fifth enabling parame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714240" cy="6905520"/>
          </a:xfrm>
          <a:prstGeom prst="rect">
            <a:avLst/>
          </a:prstGeom>
          <a:ln w="0">
            <a:noFill/>
          </a:ln>
        </p:spPr>
      </p:pic>
      <p:sp>
        <p:nvSpPr>
          <p:cNvPr id="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du.gov.on.ca/eng/teachers/curriculum.html" TargetMode="External"/><Relationship Id="rId2" Type="http://schemas.openxmlformats.org/officeDocument/2006/relationships/hyperlink" Target="http://www.edu.gov.on.ca/eng/teachers/curriculum.html"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ocup.org/resources/#growpdf" TargetMode="External"/><Relationship Id="rId2" Type="http://schemas.openxmlformats.org/officeDocument/2006/relationships/hyperlink" Target="http://www.ocup.org/resources/#growpdf" TargetMode="External"/><Relationship Id="rId3" Type="http://schemas.openxmlformats.org/officeDocument/2006/relationships/hyperlink" Target="http://curriculum.breezecentral.com/thinkingskills"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levitated.net/bones/nodeGarden/index.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diagram.com/examples/complexity.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al Analogy</a:t>
            </a:r>
            <a:endParaRPr b="0" lang="en-US" sz="4400" spc="-1" strike="noStrike">
              <a:solidFill>
                <a:srgbClr val="000000"/>
              </a:solidFill>
              <a:latin typeface="Times New Roman"/>
            </a:endParaRPr>
          </a:p>
        </p:txBody>
      </p:sp>
      <p:sp>
        <p:nvSpPr>
          <p:cNvPr id="30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chitectural leaders in education…make connections….In schools lead by architectural leade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is connected, and there 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uch thing as a ‘nonacademic’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assembly, or experien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30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7320" y="-57240"/>
            <a:ext cx="9460080" cy="6972480"/>
          </a:xfrm>
          <a:prstGeom prst="rect">
            <a:avLst/>
          </a:prstGeom>
          <a:ln w="0">
            <a:noFill/>
          </a:ln>
        </p:spPr>
      </p:pic>
      <p:sp>
        <p:nvSpPr>
          <p:cNvPr id="304" name=""/>
          <p:cNvSpPr/>
          <p:nvPr/>
        </p:nvSpPr>
        <p:spPr>
          <a:xfrm>
            <a:off x="2895480" y="2362320"/>
            <a:ext cx="57913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Leadership Framework</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Purposes</a:t>
            </a:r>
            <a:endParaRPr b="0" lang="en-US" sz="4400" spc="-1" strike="noStrike">
              <a:solidFill>
                <a:srgbClr val="000000"/>
              </a:solidFill>
              <a:latin typeface="Times New Roman"/>
            </a:endParaRPr>
          </a:p>
        </p:txBody>
      </p:sp>
      <p:sp>
        <p:nvSpPr>
          <p:cNvPr id="306"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ire a shared vision of leadership in schools and board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 a common language that fosters an understanding of leadership and what it means to be a school and system leade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the practices and competencies that describe effective leadershi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 the design and implementation of professional learning and development for school and system leader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ains</a:t>
            </a:r>
            <a:endParaRPr b="0" lang="en-US" sz="4400" spc="-1" strike="noStrike">
              <a:solidFill>
                <a:srgbClr val="000000"/>
              </a:solidFill>
              <a:latin typeface="Times New Roman"/>
            </a:endParaRPr>
          </a:p>
        </p:txBody>
      </p:sp>
      <p:sp>
        <p:nvSpPr>
          <p:cNvPr id="309"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dire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elationships and developing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the organization</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ading the instructional progra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accountability</a:t>
            </a:r>
            <a:endParaRPr b="0" lang="en-US" sz="3200" spc="-1" strike="noStrike">
              <a:solidFill>
                <a:srgbClr val="000000"/>
              </a:solidFill>
              <a:latin typeface="Times New Roman"/>
            </a:endParaRPr>
          </a:p>
        </p:txBody>
      </p:sp>
      <p:sp>
        <p:nvSpPr>
          <p:cNvPr id="31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der Practices and Competencies</a:t>
            </a:r>
            <a:endParaRPr b="0" lang="en-US" sz="4400" spc="-1" strike="noStrike">
              <a:solidFill>
                <a:srgbClr val="000000"/>
              </a:solidFill>
              <a:latin typeface="Times New Roman"/>
            </a:endParaRPr>
          </a:p>
        </p:txBody>
      </p:sp>
      <p:sp>
        <p:nvSpPr>
          <p:cNvPr id="312" name="PlaceHolder 2"/>
          <p:cNvSpPr>
            <a:spLocks noGrp="1"/>
          </p:cNvSpPr>
          <p:nvPr>
            <p:ph/>
          </p:nvPr>
        </p:nvSpPr>
        <p:spPr>
          <a:xfrm>
            <a:off x="1371240" y="1981080"/>
            <a:ext cx="6629400" cy="46483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enci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itudes</a:t>
            </a:r>
            <a:endParaRPr b="0" lang="en-US" sz="3200" spc="-1" strike="noStrike">
              <a:solidFill>
                <a:srgbClr val="000000"/>
              </a:solidFill>
              <a:latin typeface="Times New Roman"/>
            </a:endParaRPr>
          </a:p>
        </p:txBody>
      </p:sp>
      <p:sp>
        <p:nvSpPr>
          <p:cNvPr id="31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609120"/>
            <a:ext cx="76960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s of the Indicators</a:t>
            </a:r>
            <a:endParaRPr b="0" lang="en-US" sz="4400" spc="-1" strike="noStrike">
              <a:solidFill>
                <a:srgbClr val="000000"/>
              </a:solidFill>
              <a:latin typeface="Times New Roman"/>
            </a:endParaRPr>
          </a:p>
        </p:txBody>
      </p:sp>
      <p:sp>
        <p:nvSpPr>
          <p:cNvPr id="315" name="PlaceHolder 2"/>
          <p:cNvSpPr>
            <a:spLocks noGrp="1"/>
          </p:cNvSpPr>
          <p:nvPr>
            <p:ph/>
          </p:nvPr>
        </p:nvSpPr>
        <p:spPr>
          <a:xfrm>
            <a:off x="762120" y="1981080"/>
            <a:ext cx="76960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do? </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talk about i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o know?</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and guiding principles do we need to embr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57320" y="-57240"/>
            <a:ext cx="9460080" cy="6972480"/>
          </a:xfrm>
          <a:prstGeom prst="rect">
            <a:avLst/>
          </a:prstGeom>
          <a:ln w="0">
            <a:noFill/>
          </a:ln>
        </p:spPr>
      </p:pic>
      <p:sp>
        <p:nvSpPr>
          <p:cNvPr id="317" name=""/>
          <p:cNvSpPr/>
          <p:nvPr/>
        </p:nvSpPr>
        <p:spPr>
          <a:xfrm>
            <a:off x="2895480" y="2362320"/>
            <a:ext cx="5791320" cy="344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upport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Times New Roman"/>
            </a:endParaRPr>
          </a:p>
        </p:txBody>
      </p:sp>
      <p:sp>
        <p:nvSpPr>
          <p:cNvPr id="319" name="PlaceHolder 2"/>
          <p:cNvSpPr>
            <a:spLocks noGrp="1"/>
          </p:cNvSpPr>
          <p:nvPr>
            <p:ph/>
          </p:nvPr>
        </p:nvSpPr>
        <p:spPr>
          <a:xfrm>
            <a:off x="990360" y="1981080"/>
            <a:ext cx="784836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teracies for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 for Mathematics Instruction</a:t>
            </a:r>
            <a:endParaRPr b="0" lang="en-US" sz="3200" spc="-1" strike="noStrike">
              <a:solidFill>
                <a:srgbClr val="000000"/>
              </a:solidFill>
              <a:latin typeface="Times New Roman"/>
            </a:endParaRPr>
          </a:p>
        </p:txBody>
      </p:sp>
      <p:sp>
        <p:nvSpPr>
          <p:cNvPr id="32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ing Documents</a:t>
            </a:r>
            <a:endParaRPr b="0" lang="en-US" sz="4400" spc="-1" strike="noStrike">
              <a:solidFill>
                <a:srgbClr val="000000"/>
              </a:solidFill>
              <a:latin typeface="Times New Roman"/>
            </a:endParaRPr>
          </a:p>
        </p:txBody>
      </p:sp>
      <p:sp>
        <p:nvSpPr>
          <p:cNvPr id="322"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cators, like the frameworks, are working documents that will evolve as a result of continued research, conversations with stakeholders, and feedback</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5" name="PlaceHolder 2"/>
          <p:cNvSpPr>
            <a:spLocks noGrp="1"/>
          </p:cNvSpPr>
          <p:nvPr>
            <p:ph/>
          </p:nvPr>
        </p:nvSpPr>
        <p:spPr>
          <a:xfrm>
            <a:off x="990360" y="1295280"/>
            <a:ext cx="8001000" cy="4114800"/>
          </a:xfrm>
          <a:prstGeom prst="rect">
            <a:avLst/>
          </a:prstGeom>
          <a:solidFill>
            <a:srgbClr val="ffffff"/>
          </a:solid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Increasingly inclusive classrooms that reflect diverse cultural knowledge and practices; support anti-discrimination education; appeal to both genders; value and build on the knowledge, experiences, and literacies </a:t>
            </a:r>
            <a:r>
              <a:rPr b="0" i="1" lang="en-US" sz="2800" spc="-1" strike="noStrike">
                <a:solidFill>
                  <a:srgbClr val="000000"/>
                </a:solidFill>
                <a:latin typeface="Arial"/>
              </a:rPr>
              <a:t>all </a:t>
            </a:r>
            <a:r>
              <a:rPr b="0" lang="en-US" sz="2800" spc="-1" strike="noStrike">
                <a:solidFill>
                  <a:srgbClr val="000000"/>
                </a:solidFill>
                <a:latin typeface="Arial"/>
              </a:rPr>
              <a:t>learners bring to school</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The classroom becomes increasingly inclusive by: reflecting cultural knowledge and practices; supporting anti-discrimination education; appealing to both genders; valuing knowledge, experiences and literacies all learners bring to school</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2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7320" y="-57240"/>
            <a:ext cx="9460080" cy="6972480"/>
          </a:xfrm>
          <a:prstGeom prst="rect">
            <a:avLst/>
          </a:prstGeom>
          <a:ln w="0">
            <a:noFill/>
          </a:ln>
        </p:spPr>
      </p:pic>
      <p:sp>
        <p:nvSpPr>
          <p:cNvPr id="49" name=""/>
          <p:cNvSpPr/>
          <p:nvPr/>
        </p:nvSpPr>
        <p:spPr>
          <a:xfrm>
            <a:off x="2895480" y="2209680"/>
            <a:ext cx="5867640" cy="4116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ing Administrators</a:t>
            </a:r>
            <a:r>
              <a:rPr b="0"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Instructional Leader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aching every student</a:t>
            </a:r>
            <a:r>
              <a:rPr b="0" lang="en-US" sz="3600" spc="-1" strike="noStrike">
                <a:solidFill>
                  <a:srgbClr val="ffffff"/>
                </a:solidFill>
                <a:latin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by reaching every educato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8"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Practic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and coherent use of literacy and learning strategies—explicit, systematic, understanding of the conditions for effective strategy instruction, modeling, and application</a:t>
            </a:r>
            <a:endParaRPr b="0" lang="en-US" sz="2800" spc="-1" strike="noStrike">
              <a:solidFill>
                <a:srgbClr val="000000"/>
              </a:solidFill>
              <a:latin typeface="Times New Roman"/>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325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use of literacy strategies—being explicit and systematic, understanding conditions for effective strategy instruction, modelling, and application</a:t>
            </a:r>
            <a:endParaRPr b="0" lang="en-US" sz="2800" spc="-1" strike="noStrike">
              <a:solidFill>
                <a:srgbClr val="000000"/>
              </a:solidFill>
              <a:latin typeface="Times New Roman"/>
            </a:endParaRPr>
          </a:p>
        </p:txBody>
      </p:sp>
      <p:sp>
        <p:nvSpPr>
          <p:cNvPr id="32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1" name="PlaceHolder 2"/>
          <p:cNvSpPr>
            <a:spLocks noGrp="1"/>
          </p:cNvSpPr>
          <p:nvPr>
            <p:ph/>
          </p:nvPr>
        </p:nvSpPr>
        <p:spPr>
          <a:xfrm>
            <a:off x="990720" y="1981080"/>
            <a:ext cx="777240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selection and use of literacy and learning strategies based on matching deep structure and principles to curriculum concepts and skills</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selection and use of literacy and learning strategies based on matching underlying structure and principles to concepts and skil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bject-Specific</a:t>
            </a:r>
            <a:endParaRPr b="0" lang="en-US" sz="4400" spc="-1" strike="noStrike">
              <a:solidFill>
                <a:srgbClr val="000000"/>
              </a:solidFill>
              <a:latin typeface="Times New Roman"/>
            </a:endParaRPr>
          </a:p>
        </p:txBody>
      </p:sp>
      <p:sp>
        <p:nvSpPr>
          <p:cNvPr id="334"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87000"/>
          </a:bodyPr>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Students increasingly take responsibility for learning of others and self. Math sense becomes the criterion for learning</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glish) Teaching, modelling and engaging learners in a range of text pertinent to the discipline, including:</a:t>
            </a:r>
            <a:endParaRPr b="0" lang="en-US" sz="28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place and other authentic documents</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iction, graphical and hybrid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formational text </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lectronic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elf-selected texts</a:t>
            </a:r>
            <a:endParaRPr b="0" lang="en-US" sz="2400" spc="-1" strike="noStrike">
              <a:solidFill>
                <a:srgbClr val="000000"/>
              </a:solidFill>
              <a:latin typeface="Times New Roman"/>
            </a:endParaRPr>
          </a:p>
        </p:txBody>
      </p:sp>
      <p:sp>
        <p:nvSpPr>
          <p:cNvPr id="33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7"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ift from rote learning and recall to developing conceptual understanding, making connections, reorganizing information, thinking critically, and engaging in the stance of critical literacy that compels social action</a:t>
            </a:r>
            <a:endParaRPr b="0" lang="en-US" sz="2800" spc="-1" strike="noStrike">
              <a:solidFill>
                <a:srgbClr val="000000"/>
              </a:solidFill>
              <a:latin typeface="Times New Roman"/>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from rote learning and recall to developing conceptual understanding and making connections</a:t>
            </a:r>
            <a:endParaRPr b="0" lang="en-US" sz="2800" spc="-1" strike="noStrike">
              <a:solidFill>
                <a:srgbClr val="000000"/>
              </a:solidFill>
              <a:latin typeface="Times New Roman"/>
            </a:endParaRPr>
          </a:p>
        </p:txBody>
      </p:sp>
      <p:sp>
        <p:nvSpPr>
          <p:cNvPr id="33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40"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T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espect for and active connecting with technological knowledge and skills, and the digital backgrounds students bring to school</a:t>
            </a:r>
            <a:endParaRPr b="0" lang="en-US" sz="2800" spc="-1" strike="noStrike">
              <a:solidFill>
                <a:srgbClr val="000000"/>
              </a:solidFill>
              <a:latin typeface="Times New Roman"/>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in attitudes about using tools in making sense of mathematics and in demonstrating understanding from just struggling students to all learners, and to the extent indicated in the revised Ontario curriculum for mathematics</a:t>
            </a:r>
            <a:endParaRPr b="0" lang="en-US" sz="2800" spc="-1" strike="noStrike">
              <a:solidFill>
                <a:srgbClr val="000000"/>
              </a:solidFill>
              <a:latin typeface="Times New Roman"/>
            </a:endParaRPr>
          </a:p>
        </p:txBody>
      </p:sp>
      <p:sp>
        <p:nvSpPr>
          <p:cNvPr id="34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57320" y="-57240"/>
            <a:ext cx="9460080" cy="6972480"/>
          </a:xfrm>
          <a:prstGeom prst="rect">
            <a:avLst/>
          </a:prstGeom>
          <a:ln w="0">
            <a:noFill/>
          </a:ln>
        </p:spPr>
      </p:pic>
      <p:sp>
        <p:nvSpPr>
          <p:cNvPr id="343" name=""/>
          <p:cNvSpPr/>
          <p:nvPr/>
        </p:nvSpPr>
        <p:spPr>
          <a:xfrm>
            <a:off x="2895480" y="2362320"/>
            <a:ext cx="62485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Going Deeper</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Works-in-progres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Year Frame</a:t>
            </a:r>
            <a:endParaRPr b="0" lang="en-US" sz="4400" spc="-1" strike="noStrike">
              <a:solidFill>
                <a:srgbClr val="000000"/>
              </a:solidFill>
              <a:latin typeface="Times New Roman"/>
            </a:endParaRPr>
          </a:p>
        </p:txBody>
      </p:sp>
      <p:sp>
        <p:nvSpPr>
          <p:cNvPr id="345"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and other records of practice</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a:t>
            </a:r>
            <a:r>
              <a:rPr b="0" lang="en-US" sz="2800" spc="-1" strike="noStrike">
                <a:solidFill>
                  <a:srgbClr val="000000"/>
                </a:solidFill>
                <a:latin typeface="Arial"/>
              </a:rPr>
              <a:t> and </a:t>
            </a:r>
            <a:r>
              <a:rPr b="0" i="1" lang="en-US" sz="2800" spc="-1" strike="noStrike">
                <a:solidFill>
                  <a:srgbClr val="000000"/>
                </a:solidFill>
                <a:latin typeface="Arial"/>
              </a:rPr>
              <a:t>research</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 </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s for administrators, facilitators of teachers’ learning, and teachers</a:t>
            </a:r>
            <a:endParaRPr b="0" lang="en-US" sz="2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Talk Community</a:t>
            </a:r>
            <a:endParaRPr b="0" lang="en-US" sz="4400" spc="-1" strike="noStrike">
              <a:solidFill>
                <a:srgbClr val="000000"/>
              </a:solidFill>
              <a:latin typeface="Times New Roman"/>
            </a:endParaRPr>
          </a:p>
        </p:txBody>
      </p:sp>
      <p:sp>
        <p:nvSpPr>
          <p:cNvPr id="34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2620800" y="2562120"/>
            <a:ext cx="3902400" cy="260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83818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 Prompts</a:t>
            </a:r>
            <a:endParaRPr b="0" lang="en-US" sz="4000" spc="-1" strike="noStrike">
              <a:solidFill>
                <a:srgbClr val="000000"/>
              </a:solidFill>
              <a:latin typeface="Times New Roman"/>
            </a:endParaRPr>
          </a:p>
        </p:txBody>
      </p:sp>
      <p:sp>
        <p:nvSpPr>
          <p:cNvPr id="3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I can see that you use Anticipation Guides (K-W-L charts, etc.) to support learners in accessing prior knowledge and making connections to their own experiences in preparation for reading the text.”</a:t>
            </a:r>
            <a:endParaRPr b="0" lang="en-US" sz="3200" spc="-1" strike="noStrike">
              <a:solidFill>
                <a:srgbClr val="000000"/>
              </a:solidFill>
              <a:latin typeface="Times New Roman"/>
            </a:endParaRPr>
          </a:p>
          <a:p>
            <a:pPr lvl="1" marL="743040" indent="-2858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at is your thinking about the use of first language other than English for pre-reading activit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Prompts</a:t>
            </a:r>
            <a:endParaRPr b="0" lang="en-US" sz="4400" spc="-1" strike="noStrike">
              <a:solidFill>
                <a:srgbClr val="000000"/>
              </a:solidFill>
              <a:latin typeface="Times New Roman"/>
            </a:endParaRPr>
          </a:p>
        </p:txBody>
      </p:sp>
      <p:sp>
        <p:nvSpPr>
          <p:cNvPr id="3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Our pre-meeting notes indicated that this lesson would focus on writing.”</a:t>
            </a:r>
            <a:endParaRPr b="0" lang="en-US" sz="3200" spc="-1" strike="noStrike">
              <a:solidFill>
                <a:srgbClr val="000000"/>
              </a:solidFill>
              <a:latin typeface="Times New Roman"/>
            </a:endParaRPr>
          </a:p>
          <a:p>
            <a:pPr lvl="1" marL="743040" indent="-285840">
              <a:lnSpc>
                <a:spcPct val="10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y did you decide to devote so much of class time to talk in small groups and to develop graphic organiz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orities</a:t>
            </a:r>
            <a:endParaRPr b="0" lang="en-US" sz="4400" spc="-1" strike="noStrike">
              <a:solidFill>
                <a:srgbClr val="000000"/>
              </a:solidFill>
              <a:latin typeface="Times New Roman"/>
            </a:endParaRPr>
          </a:p>
        </p:txBody>
      </p:sp>
      <p:sp>
        <p:nvSpPr>
          <p:cNvPr id="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tudents’ achievemen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gap</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 in public education</a:t>
            </a:r>
            <a:endParaRPr b="0" lang="en-US" sz="3200" spc="-1" strike="noStrike">
              <a:solidFill>
                <a:srgbClr val="000000"/>
              </a:solidFill>
              <a:latin typeface="Times New Roman"/>
            </a:endParaRPr>
          </a:p>
        </p:txBody>
      </p:sp>
      <p:sp>
        <p:nvSpPr>
          <p:cNvPr id="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 </a:t>
            </a:r>
            <a:br>
              <a:rPr sz="4400"/>
            </a:br>
            <a:r>
              <a:rPr b="1" lang="en-US" sz="4400" spc="-1" strike="noStrike">
                <a:solidFill>
                  <a:srgbClr val="000000"/>
                </a:solidFill>
                <a:latin typeface="Arial"/>
              </a:rPr>
              <a:t>and Teachers</a:t>
            </a:r>
            <a:endParaRPr b="0" lang="en-US" sz="4400" spc="-1" strike="noStrike">
              <a:solidFill>
                <a:srgbClr val="000000"/>
              </a:solidFill>
              <a:latin typeface="Times New Roman"/>
            </a:endParaRPr>
          </a:p>
        </p:txBody>
      </p:sp>
      <p:sp>
        <p:nvSpPr>
          <p:cNvPr id="35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50840" y="2301840"/>
            <a:ext cx="80931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Arial"/>
              </a:rPr>
              <a:t>Building on </a:t>
            </a:r>
            <a:r>
              <a:rPr b="0" i="1" lang="en-US" sz="3200" spc="-1" strike="noStrike">
                <a:solidFill>
                  <a:srgbClr val="000000"/>
                </a:solidFill>
                <a:latin typeface="Arial"/>
              </a:rPr>
              <a:t>all </a:t>
            </a:r>
            <a:r>
              <a:rPr b="0" lang="en-US" sz="3200" spc="-1" strike="noStrike">
                <a:solidFill>
                  <a:srgbClr val="000000"/>
                </a:solidFill>
                <a:latin typeface="Arial"/>
              </a:rPr>
              <a:t>learners’ prior knowledge, intellectual strength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level, and personal interests, e.g.</a:t>
            </a:r>
            <a:endParaRPr b="0" lang="en-US" sz="3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Anticipation Guide (CAA, 20)</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bable Passage (TLSSE L/E, 7-9, 8)</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lace Mat (TLSSE E, 10-12, 106)</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a:t>
            </a:r>
            <a:endParaRPr b="0" lang="en-US" sz="4400" spc="-1" strike="noStrike">
              <a:solidFill>
                <a:srgbClr val="000000"/>
              </a:solidFill>
              <a:latin typeface="Times New Roman"/>
            </a:endParaRPr>
          </a:p>
        </p:txBody>
      </p:sp>
      <p:sp>
        <p:nvSpPr>
          <p:cNvPr id="360" name="PlaceHolder 2"/>
          <p:cNvSpPr>
            <a:spLocks noGrp="1"/>
          </p:cNvSpPr>
          <p:nvPr>
            <p:ph/>
          </p:nvPr>
        </p:nvSpPr>
        <p:spPr>
          <a:xfrm>
            <a:off x="990360" y="1600200"/>
            <a:ext cx="7848360" cy="4952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Excerpts from </a:t>
            </a:r>
            <a:r>
              <a:rPr b="0" i="1" lang="en-US" sz="2800" spc="-1" strike="noStrike">
                <a:solidFill>
                  <a:srgbClr val="0000ff"/>
                </a:solidFill>
                <a:latin typeface="Arial"/>
                <a:ea typeface="Arial"/>
              </a:rPr>
              <a:t>The Ontario Curriculum, English</a:t>
            </a:r>
            <a:r>
              <a:rPr b="0" i="1" lang="en-US" sz="2800" spc="-1" strike="noStrike">
                <a:solidFill>
                  <a:srgbClr val="000000"/>
                </a:solidFill>
                <a:latin typeface="Arial"/>
                <a:ea typeface="Arial"/>
              </a:rPr>
              <a:t>,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edu.gov.on.ca/eng/teachers/curriculum.html</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eachers who provide quality instruction respect students’ strengths and address their learning needs, using assessment information to plan instruction. They clarify the purpose for learning, help students activate prior knowledge, and differentiate instruction for individual students and small groups according to need. Teachers explicitly teach and model learning strategies and encourage students to talk through their thinking and learning processes. They also provide many opportunities for students to practise and apply their developing knowledge and skills.” p. 2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6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Teachers</a:t>
            </a:r>
            <a:endParaRPr b="0" lang="en-US" sz="4400" spc="-1" strike="noStrike">
              <a:solidFill>
                <a:srgbClr val="000000"/>
              </a:solidFill>
              <a:latin typeface="Times New Roman"/>
            </a:endParaRPr>
          </a:p>
        </p:txBody>
      </p:sp>
      <p:sp>
        <p:nvSpPr>
          <p:cNvPr id="363" name="PlaceHolder 2"/>
          <p:cNvSpPr>
            <a:spLocks noGrp="1"/>
          </p:cNvSpPr>
          <p:nvPr>
            <p:ph/>
          </p:nvPr>
        </p:nvSpPr>
        <p:spPr>
          <a:xfrm>
            <a:off x="990360" y="1981080"/>
            <a:ext cx="79246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nistry Re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ategy Glossary, English Resources, </a:t>
            </a:r>
            <a:r>
              <a:rPr b="0" lang="en-US" sz="2800" spc="-1" strike="noStrike">
                <a:solidFill>
                  <a:srgbClr val="333333"/>
                </a:solidFill>
                <a:latin typeface="Arial"/>
                <a:ea typeface="Arial"/>
              </a:rPr>
              <a:t>Resources for The Ontario Curriculum, Grades 9-12, English, 2007, Resources, Curriculum Unit Planner,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ocup.org/resources/#growpdf</a:t>
            </a:r>
            <a:r>
              <a:rPr b="0" lang="en-US" sz="2800" spc="-1" strike="noStrike">
                <a:solidFill>
                  <a:srgbClr val="3333cc"/>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Arial"/>
                <a:hlinkClick r:id="rId3"/>
              </a:rPr>
              <a:t>Developing Thinking Skills Through Higher-Level Questio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7320" y="-57240"/>
            <a:ext cx="9460080" cy="6972480"/>
          </a:xfrm>
          <a:prstGeom prst="rect">
            <a:avLst/>
          </a:prstGeom>
          <a:ln w="0">
            <a:noFill/>
          </a:ln>
        </p:spPr>
      </p:pic>
      <p:sp>
        <p:nvSpPr>
          <p:cNvPr id="366" name=""/>
          <p:cNvSpPr/>
          <p:nvPr/>
        </p:nvSpPr>
        <p:spPr>
          <a:xfrm>
            <a:off x="2895480" y="2362320"/>
            <a:ext cx="5791320" cy="3567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adership is about creating a domain in which human beings continually deepen their understanding of reality and become more capable of participating….”</a:t>
            </a:r>
            <a:r>
              <a:rPr b="1" lang="en-US" sz="4400" spc="-1" strike="noStrike">
                <a:solidFill>
                  <a:srgbClr val="ffffff"/>
                </a:solidFill>
                <a:latin typeface="Arial"/>
              </a:rPr>
              <a:t>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09120"/>
            <a:ext cx="81532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from Research</a:t>
            </a:r>
            <a:endParaRPr b="0" lang="en-US" sz="4400" spc="-1" strike="noStrike">
              <a:solidFill>
                <a:srgbClr val="000000"/>
              </a:solidFill>
              <a:latin typeface="Times New Roman"/>
            </a:endParaRPr>
          </a:p>
        </p:txBody>
      </p:sp>
      <p:sp>
        <p:nvSpPr>
          <p:cNvPr id="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teaching, and adult actions matter.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leadership actions show demonstrable links to improved student achievement: inquiry, implementation, monitoring.</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s neither a unitary skill set nor a solitary activity</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ctional Leadership</a:t>
            </a:r>
            <a:endParaRPr b="0" lang="en-US" sz="4400" spc="-1" strike="noStrike">
              <a:solidFill>
                <a:srgbClr val="000000"/>
              </a:solidFill>
              <a:latin typeface="Times New Roman"/>
            </a:endParaRPr>
          </a:p>
        </p:txBody>
      </p:sp>
      <p:sp>
        <p:nvSpPr>
          <p:cNvPr id="57"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adership is second only to teaching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ts impact on student outcome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s and vice-principal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an essential role as school leade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hieve this impac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om Purpose to Practice: Putting Ontario’s Leadership Framework into Action—A Guide for School and System Leaders</a:t>
            </a:r>
            <a:endParaRPr b="0" lang="en-US" sz="20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2416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3357720" y="6243480"/>
            <a:ext cx="572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levitated.net/bones/nodeGarden/index.html</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76212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erence</a:t>
            </a:r>
            <a:endParaRPr b="0" lang="en-US" sz="4400" spc="-1" strike="noStrike">
              <a:solidFill>
                <a:srgbClr val="000000"/>
              </a:solidFill>
              <a:latin typeface="Times New Roman"/>
            </a:endParaRPr>
          </a:p>
        </p:txBody>
      </p:sp>
      <p:sp>
        <p:nvSpPr>
          <p:cNvPr id="6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herence is what results w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x adaptive system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common purpose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s, and valu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ine and Caine, 33</a:t>
            </a:r>
            <a:endParaRPr b="0" lang="en-US" sz="2800" spc="-1" strike="noStrike">
              <a:solidFill>
                <a:srgbClr val="000000"/>
              </a:solidFill>
              <a:latin typeface="Times New Roman"/>
            </a:endParaRPr>
          </a:p>
        </p:txBody>
      </p:sp>
      <p:sp>
        <p:nvSpPr>
          <p:cNvPr id="6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14720" y="2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holonomy" descr=""/>
          <p:cNvPicPr/>
          <p:nvPr/>
        </p:nvPicPr>
        <p:blipFill>
          <a:blip r:embed="rId1"/>
          <a:stretch/>
        </p:blipFill>
        <p:spPr>
          <a:xfrm>
            <a:off x="2214720" y="76320"/>
            <a:ext cx="4714560" cy="6276960"/>
          </a:xfrm>
          <a:prstGeom prst="rect">
            <a:avLst/>
          </a:prstGeom>
          <a:ln w="0">
            <a:noFill/>
          </a:ln>
        </p:spPr>
      </p:pic>
      <p:sp>
        <p:nvSpPr>
          <p:cNvPr id="69" name=""/>
          <p:cNvSpPr/>
          <p:nvPr/>
        </p:nvSpPr>
        <p:spPr>
          <a:xfrm>
            <a:off x="1019160" y="6483240"/>
            <a:ext cx="812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hall Clemens, ideagram</a:t>
            </a: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2"/>
              </a:rPr>
              <a:t>http://www.idiagram.com/examples/complexity.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 Alignment </a:t>
            </a:r>
            <a:br>
              <a:rPr sz="4400"/>
            </a:br>
            <a:r>
              <a:rPr b="0" lang="en-US" sz="4400" spc="-1" strike="noStrike">
                <a:solidFill>
                  <a:srgbClr val="000000"/>
                </a:solidFill>
                <a:latin typeface="Arial"/>
              </a:rPr>
              <a:t>at All Levels of the System</a:t>
            </a:r>
            <a:endParaRPr b="0" lang="en-US" sz="4400" spc="-1" strike="noStrike">
              <a:solidFill>
                <a:srgbClr val="000000"/>
              </a:solidFill>
              <a:latin typeface="Times New Roman"/>
            </a:endParaRPr>
          </a:p>
        </p:txBody>
      </p:sp>
      <p:sp>
        <p:nvSpPr>
          <p:cNvPr id="7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62120" y="2514600"/>
            <a:ext cx="8381880" cy="609480"/>
            <a:chOff x="762120" y="2514600"/>
            <a:chExt cx="8381880" cy="609480"/>
          </a:xfrm>
        </p:grpSpPr>
        <p:grpSp>
          <p:nvGrpSpPr>
            <p:cNvPr id="73" name=""/>
            <p:cNvGrpSpPr/>
            <p:nvPr/>
          </p:nvGrpSpPr>
          <p:grpSpPr>
            <a:xfrm>
              <a:off x="764280" y="2516040"/>
              <a:ext cx="8376840" cy="606240"/>
              <a:chOff x="764280" y="2516040"/>
              <a:chExt cx="8376840" cy="606240"/>
            </a:xfrm>
          </p:grpSpPr>
          <p:grpSp>
            <p:nvGrpSpPr>
              <p:cNvPr id="74" name=""/>
              <p:cNvGrpSpPr/>
              <p:nvPr/>
            </p:nvGrpSpPr>
            <p:grpSpPr>
              <a:xfrm>
                <a:off x="764280" y="2516040"/>
                <a:ext cx="1484640" cy="303120"/>
                <a:chOff x="764280" y="2516040"/>
                <a:chExt cx="1484640" cy="303120"/>
              </a:xfrm>
            </p:grpSpPr>
            <p:sp>
              <p:nvSpPr>
                <p:cNvPr id="75" name=""/>
                <p:cNvSpPr/>
                <p:nvPr/>
              </p:nvSpPr>
              <p:spPr>
                <a:xfrm>
                  <a:off x="764280" y="251604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64280" y="2516040"/>
                  <a:ext cx="1484640" cy="303120"/>
                  <a:chOff x="764280" y="2516040"/>
                  <a:chExt cx="1484640" cy="303120"/>
                </a:xfrm>
              </p:grpSpPr>
              <p:sp>
                <p:nvSpPr>
                  <p:cNvPr id="77" name=""/>
                  <p:cNvSpPr/>
                  <p:nvPr/>
                </p:nvSpPr>
                <p:spPr>
                  <a:xfrm>
                    <a:off x="813960" y="251604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People</a:t>
                    </a:r>
                    <a:endParaRPr b="0" lang="en-US" sz="1200" spc="-1" strike="noStrike">
                      <a:solidFill>
                        <a:srgbClr val="000000"/>
                      </a:solidFill>
                      <a:latin typeface="Times New Roman"/>
                    </a:endParaRPr>
                  </a:p>
                </p:txBody>
              </p:sp>
              <p:sp>
                <p:nvSpPr>
                  <p:cNvPr id="78" name=""/>
                  <p:cNvSpPr/>
                  <p:nvPr/>
                </p:nvSpPr>
                <p:spPr>
                  <a:xfrm>
                    <a:off x="764280" y="251604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2248920" y="2516040"/>
                <a:ext cx="2019240" cy="303120"/>
                <a:chOff x="2248920" y="2516040"/>
                <a:chExt cx="2019240" cy="303120"/>
              </a:xfrm>
            </p:grpSpPr>
            <p:sp>
              <p:nvSpPr>
                <p:cNvPr id="80" name=""/>
                <p:cNvSpPr/>
                <p:nvPr/>
              </p:nvSpPr>
              <p:spPr>
                <a:xfrm>
                  <a:off x="2248920" y="251604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248920" y="2516040"/>
                  <a:ext cx="2019240" cy="303120"/>
                  <a:chOff x="2248920" y="2516040"/>
                  <a:chExt cx="2019240" cy="303120"/>
                </a:xfrm>
              </p:grpSpPr>
              <p:sp>
                <p:nvSpPr>
                  <p:cNvPr id="82" name=""/>
                  <p:cNvSpPr/>
                  <p:nvPr/>
                </p:nvSpPr>
                <p:spPr>
                  <a:xfrm>
                    <a:off x="2298600" y="251604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Vision (Goals)</a:t>
                    </a:r>
                    <a:endParaRPr b="0" lang="en-US" sz="1200" spc="-1" strike="noStrike">
                      <a:solidFill>
                        <a:srgbClr val="000000"/>
                      </a:solidFill>
                      <a:latin typeface="Times New Roman"/>
                    </a:endParaRPr>
                  </a:p>
                </p:txBody>
              </p:sp>
              <p:sp>
                <p:nvSpPr>
                  <p:cNvPr id="83" name=""/>
                  <p:cNvSpPr/>
                  <p:nvPr/>
                </p:nvSpPr>
                <p:spPr>
                  <a:xfrm>
                    <a:off x="2248920" y="251604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268520" y="2516040"/>
                <a:ext cx="3103920" cy="303120"/>
                <a:chOff x="4268520" y="2516040"/>
                <a:chExt cx="3103920" cy="303120"/>
              </a:xfrm>
            </p:grpSpPr>
            <p:sp>
              <p:nvSpPr>
                <p:cNvPr id="85" name=""/>
                <p:cNvSpPr/>
                <p:nvPr/>
              </p:nvSpPr>
              <p:spPr>
                <a:xfrm>
                  <a:off x="4268520" y="251604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4268520" y="2516040"/>
                  <a:ext cx="3103920" cy="303120"/>
                  <a:chOff x="4268520" y="2516040"/>
                  <a:chExt cx="3103920" cy="303120"/>
                </a:xfrm>
              </p:grpSpPr>
              <p:sp>
                <p:nvSpPr>
                  <p:cNvPr id="87" name=""/>
                  <p:cNvSpPr/>
                  <p:nvPr/>
                </p:nvSpPr>
                <p:spPr>
                  <a:xfrm>
                    <a:off x="4317840" y="251604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rategy</a:t>
                    </a:r>
                    <a:endParaRPr b="0" lang="en-US" sz="1200" spc="-1" strike="noStrike">
                      <a:solidFill>
                        <a:srgbClr val="000000"/>
                      </a:solidFill>
                      <a:latin typeface="Times New Roman"/>
                    </a:endParaRPr>
                  </a:p>
                </p:txBody>
              </p:sp>
              <p:sp>
                <p:nvSpPr>
                  <p:cNvPr id="88" name=""/>
                  <p:cNvSpPr/>
                  <p:nvPr/>
                </p:nvSpPr>
                <p:spPr>
                  <a:xfrm>
                    <a:off x="4268520" y="251604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7372440" y="2516040"/>
                <a:ext cx="1768680" cy="303120"/>
                <a:chOff x="7372440" y="2516040"/>
                <a:chExt cx="1768680" cy="303120"/>
              </a:xfrm>
            </p:grpSpPr>
            <p:sp>
              <p:nvSpPr>
                <p:cNvPr id="90" name=""/>
                <p:cNvSpPr/>
                <p:nvPr/>
              </p:nvSpPr>
              <p:spPr>
                <a:xfrm>
                  <a:off x="7372440" y="251604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7372440" y="2516040"/>
                  <a:ext cx="1768680" cy="303120"/>
                  <a:chOff x="7372440" y="2516040"/>
                  <a:chExt cx="1768680" cy="303120"/>
                </a:xfrm>
              </p:grpSpPr>
              <p:sp>
                <p:nvSpPr>
                  <p:cNvPr id="92" name=""/>
                  <p:cNvSpPr/>
                  <p:nvPr/>
                </p:nvSpPr>
                <p:spPr>
                  <a:xfrm>
                    <a:off x="7422120" y="251604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atus</a:t>
                    </a:r>
                    <a:endParaRPr b="0" lang="en-US" sz="1200" spc="-1" strike="noStrike">
                      <a:solidFill>
                        <a:srgbClr val="000000"/>
                      </a:solidFill>
                      <a:latin typeface="Times New Roman"/>
                    </a:endParaRPr>
                  </a:p>
                </p:txBody>
              </p:sp>
              <p:sp>
                <p:nvSpPr>
                  <p:cNvPr id="93" name=""/>
                  <p:cNvSpPr/>
                  <p:nvPr/>
                </p:nvSpPr>
                <p:spPr>
                  <a:xfrm>
                    <a:off x="7372440" y="251604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764280" y="2819160"/>
                <a:ext cx="1484640" cy="303120"/>
                <a:chOff x="764280" y="2819160"/>
                <a:chExt cx="1484640" cy="303120"/>
              </a:xfrm>
            </p:grpSpPr>
            <p:sp>
              <p:nvSpPr>
                <p:cNvPr id="95" name=""/>
                <p:cNvSpPr/>
                <p:nvPr/>
              </p:nvSpPr>
              <p:spPr>
                <a:xfrm>
                  <a:off x="764280" y="281916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764280" y="2819160"/>
                  <a:ext cx="1484640" cy="303120"/>
                  <a:chOff x="764280" y="2819160"/>
                  <a:chExt cx="1484640" cy="303120"/>
                </a:xfrm>
              </p:grpSpPr>
              <p:sp>
                <p:nvSpPr>
                  <p:cNvPr id="97" name=""/>
                  <p:cNvSpPr/>
                  <p:nvPr/>
                </p:nvSpPr>
                <p:spPr>
                  <a:xfrm>
                    <a:off x="813960" y="281916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764280" y="281916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 name=""/>
              <p:cNvGrpSpPr/>
              <p:nvPr/>
            </p:nvGrpSpPr>
            <p:grpSpPr>
              <a:xfrm>
                <a:off x="2248920" y="2819160"/>
                <a:ext cx="2019240" cy="303120"/>
                <a:chOff x="2248920" y="2819160"/>
                <a:chExt cx="2019240" cy="303120"/>
              </a:xfrm>
            </p:grpSpPr>
            <p:sp>
              <p:nvSpPr>
                <p:cNvPr id="100" name=""/>
                <p:cNvSpPr/>
                <p:nvPr/>
              </p:nvSpPr>
              <p:spPr>
                <a:xfrm>
                  <a:off x="2248920" y="281916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248920" y="2819160"/>
                  <a:ext cx="2019240" cy="303120"/>
                  <a:chOff x="2248920" y="2819160"/>
                  <a:chExt cx="2019240" cy="303120"/>
                </a:xfrm>
              </p:grpSpPr>
              <p:sp>
                <p:nvSpPr>
                  <p:cNvPr id="102" name=""/>
                  <p:cNvSpPr/>
                  <p:nvPr/>
                </p:nvSpPr>
                <p:spPr>
                  <a:xfrm>
                    <a:off x="2298600" y="281916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48920" y="281916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268520" y="2819160"/>
                <a:ext cx="3103920" cy="303120"/>
                <a:chOff x="4268520" y="2819160"/>
                <a:chExt cx="3103920" cy="303120"/>
              </a:xfrm>
            </p:grpSpPr>
            <p:sp>
              <p:nvSpPr>
                <p:cNvPr id="105" name=""/>
                <p:cNvSpPr/>
                <p:nvPr/>
              </p:nvSpPr>
              <p:spPr>
                <a:xfrm>
                  <a:off x="4268520" y="281916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268520" y="2819160"/>
                  <a:ext cx="3103920" cy="303120"/>
                  <a:chOff x="4268520" y="2819160"/>
                  <a:chExt cx="3103920" cy="303120"/>
                </a:xfrm>
              </p:grpSpPr>
              <p:sp>
                <p:nvSpPr>
                  <p:cNvPr id="107" name=""/>
                  <p:cNvSpPr/>
                  <p:nvPr/>
                </p:nvSpPr>
                <p:spPr>
                  <a:xfrm>
                    <a:off x="4317840" y="281916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268520" y="281916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7372440" y="2819160"/>
                <a:ext cx="1768680" cy="303120"/>
                <a:chOff x="7372440" y="2819160"/>
                <a:chExt cx="1768680" cy="303120"/>
              </a:xfrm>
            </p:grpSpPr>
            <p:sp>
              <p:nvSpPr>
                <p:cNvPr id="110" name=""/>
                <p:cNvSpPr/>
                <p:nvPr/>
              </p:nvSpPr>
              <p:spPr>
                <a:xfrm>
                  <a:off x="7372440" y="281916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7372440" y="2819160"/>
                  <a:ext cx="1768680" cy="303120"/>
                  <a:chOff x="7372440" y="2819160"/>
                  <a:chExt cx="1768680" cy="303120"/>
                </a:xfrm>
              </p:grpSpPr>
              <p:sp>
                <p:nvSpPr>
                  <p:cNvPr id="112" name=""/>
                  <p:cNvSpPr/>
                  <p:nvPr/>
                </p:nvSpPr>
                <p:spPr>
                  <a:xfrm>
                    <a:off x="7422120" y="281916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7372440" y="281916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4" name=""/>
            <p:cNvSpPr/>
            <p:nvPr/>
          </p:nvSpPr>
          <p:spPr>
            <a:xfrm>
              <a:off x="762120" y="2514600"/>
              <a:ext cx="8381880" cy="6094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343400" y="3809880"/>
            <a:ext cx="3048120" cy="609840"/>
            <a:chOff x="4343400" y="3809880"/>
            <a:chExt cx="3048120" cy="609840"/>
          </a:xfrm>
        </p:grpSpPr>
        <p:grpSp>
          <p:nvGrpSpPr>
            <p:cNvPr id="116" name=""/>
            <p:cNvGrpSpPr/>
            <p:nvPr/>
          </p:nvGrpSpPr>
          <p:grpSpPr>
            <a:xfrm>
              <a:off x="4344120" y="3811320"/>
              <a:ext cx="3045960" cy="606240"/>
              <a:chOff x="4344120" y="3811320"/>
              <a:chExt cx="3045960" cy="606240"/>
            </a:xfrm>
          </p:grpSpPr>
          <p:grpSp>
            <p:nvGrpSpPr>
              <p:cNvPr id="117" name=""/>
              <p:cNvGrpSpPr/>
              <p:nvPr/>
            </p:nvGrpSpPr>
            <p:grpSpPr>
              <a:xfrm>
                <a:off x="4344120" y="3811320"/>
                <a:ext cx="540000" cy="303120"/>
                <a:chOff x="4344120" y="3811320"/>
                <a:chExt cx="540000" cy="303120"/>
              </a:xfrm>
            </p:grpSpPr>
            <p:sp>
              <p:nvSpPr>
                <p:cNvPr id="118" name=""/>
                <p:cNvSpPr/>
                <p:nvPr/>
              </p:nvSpPr>
              <p:spPr>
                <a:xfrm>
                  <a:off x="4344120" y="381132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4344120" y="3811320"/>
                  <a:ext cx="540000" cy="303120"/>
                  <a:chOff x="4344120" y="3811320"/>
                  <a:chExt cx="540000" cy="303120"/>
                </a:xfrm>
              </p:grpSpPr>
              <p:sp>
                <p:nvSpPr>
                  <p:cNvPr id="120" name=""/>
                  <p:cNvSpPr/>
                  <p:nvPr/>
                </p:nvSpPr>
                <p:spPr>
                  <a:xfrm>
                    <a:off x="4362120" y="381132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a:t>
                    </a:r>
                    <a:endParaRPr b="0" lang="en-US" sz="600" spc="-1" strike="noStrike">
                      <a:solidFill>
                        <a:srgbClr val="000000"/>
                      </a:solidFill>
                      <a:latin typeface="Times New Roman"/>
                    </a:endParaRPr>
                  </a:p>
                </p:txBody>
              </p:sp>
              <p:sp>
                <p:nvSpPr>
                  <p:cNvPr id="121" name=""/>
                  <p:cNvSpPr/>
                  <p:nvPr/>
                </p:nvSpPr>
                <p:spPr>
                  <a:xfrm>
                    <a:off x="4344120" y="381132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4884120" y="3811320"/>
                <a:ext cx="734040" cy="303120"/>
                <a:chOff x="4884120" y="3811320"/>
                <a:chExt cx="734040" cy="303120"/>
              </a:xfrm>
            </p:grpSpPr>
            <p:sp>
              <p:nvSpPr>
                <p:cNvPr id="123" name=""/>
                <p:cNvSpPr/>
                <p:nvPr/>
              </p:nvSpPr>
              <p:spPr>
                <a:xfrm>
                  <a:off x="4884120" y="381132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884120" y="3811320"/>
                  <a:ext cx="734040" cy="303120"/>
                  <a:chOff x="4884120" y="3811320"/>
                  <a:chExt cx="734040" cy="303120"/>
                </a:xfrm>
              </p:grpSpPr>
              <p:sp>
                <p:nvSpPr>
                  <p:cNvPr id="125" name=""/>
                  <p:cNvSpPr/>
                  <p:nvPr/>
                </p:nvSpPr>
                <p:spPr>
                  <a:xfrm>
                    <a:off x="4902120" y="381132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Arial"/>
                      </a:rPr>
                      <a:t>Vision</a:t>
                    </a:r>
                    <a:endParaRPr b="0" lang="en-US" sz="600" spc="-1" strike="noStrike">
                      <a:solidFill>
                        <a:srgbClr val="000000"/>
                      </a:solidFill>
                      <a:latin typeface="Times New Roman"/>
                    </a:endParaRPr>
                  </a:p>
                </p:txBody>
              </p:sp>
              <p:sp>
                <p:nvSpPr>
                  <p:cNvPr id="126" name=""/>
                  <p:cNvSpPr/>
                  <p:nvPr/>
                </p:nvSpPr>
                <p:spPr>
                  <a:xfrm>
                    <a:off x="4884120" y="381132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 name=""/>
              <p:cNvGrpSpPr/>
              <p:nvPr/>
            </p:nvGrpSpPr>
            <p:grpSpPr>
              <a:xfrm>
                <a:off x="5618520" y="3811320"/>
                <a:ext cx="1128600" cy="303120"/>
                <a:chOff x="5618520" y="3811320"/>
                <a:chExt cx="1128600" cy="303120"/>
              </a:xfrm>
            </p:grpSpPr>
            <p:sp>
              <p:nvSpPr>
                <p:cNvPr id="128" name=""/>
                <p:cNvSpPr/>
                <p:nvPr/>
              </p:nvSpPr>
              <p:spPr>
                <a:xfrm>
                  <a:off x="5618520" y="381132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18520" y="3811320"/>
                  <a:ext cx="1128600" cy="303120"/>
                  <a:chOff x="5618520" y="3811320"/>
                  <a:chExt cx="1128600" cy="303120"/>
                </a:xfrm>
              </p:grpSpPr>
              <p:sp>
                <p:nvSpPr>
                  <p:cNvPr id="130" name=""/>
                  <p:cNvSpPr/>
                  <p:nvPr/>
                </p:nvSpPr>
                <p:spPr>
                  <a:xfrm>
                    <a:off x="5636520" y="381132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ea typeface="Arial"/>
                      </a:rPr>
                      <a:t>Strategy</a:t>
                    </a:r>
                    <a:endParaRPr b="0" lang="en-US" sz="800" spc="-1" strike="noStrike">
                      <a:solidFill>
                        <a:srgbClr val="000000"/>
                      </a:solidFill>
                      <a:latin typeface="Times New Roman"/>
                    </a:endParaRPr>
                  </a:p>
                </p:txBody>
              </p:sp>
              <p:sp>
                <p:nvSpPr>
                  <p:cNvPr id="131" name=""/>
                  <p:cNvSpPr/>
                  <p:nvPr/>
                </p:nvSpPr>
                <p:spPr>
                  <a:xfrm>
                    <a:off x="5618520" y="381132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747120" y="3811320"/>
                <a:ext cx="642960" cy="303120"/>
                <a:chOff x="6747120" y="3811320"/>
                <a:chExt cx="642960" cy="303120"/>
              </a:xfrm>
            </p:grpSpPr>
            <p:sp>
              <p:nvSpPr>
                <p:cNvPr id="133" name=""/>
                <p:cNvSpPr/>
                <p:nvPr/>
              </p:nvSpPr>
              <p:spPr>
                <a:xfrm>
                  <a:off x="6747120" y="381132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747120" y="3811320"/>
                  <a:ext cx="642960" cy="303120"/>
                  <a:chOff x="6747120" y="3811320"/>
                  <a:chExt cx="642960" cy="303120"/>
                </a:xfrm>
              </p:grpSpPr>
              <p:sp>
                <p:nvSpPr>
                  <p:cNvPr id="135" name=""/>
                  <p:cNvSpPr/>
                  <p:nvPr/>
                </p:nvSpPr>
                <p:spPr>
                  <a:xfrm>
                    <a:off x="6765120" y="381132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 s</a:t>
                    </a:r>
                    <a:endParaRPr b="0" lang="en-US" sz="400" spc="-1" strike="noStrike">
                      <a:solidFill>
                        <a:srgbClr val="000000"/>
                      </a:solidFill>
                      <a:latin typeface="Times New Roman"/>
                    </a:endParaRPr>
                  </a:p>
                </p:txBody>
              </p:sp>
              <p:sp>
                <p:nvSpPr>
                  <p:cNvPr id="136" name=""/>
                  <p:cNvSpPr/>
                  <p:nvPr/>
                </p:nvSpPr>
                <p:spPr>
                  <a:xfrm>
                    <a:off x="6747120" y="381132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4344120" y="4114440"/>
                <a:ext cx="540000" cy="303120"/>
                <a:chOff x="4344120" y="4114440"/>
                <a:chExt cx="540000" cy="303120"/>
              </a:xfrm>
            </p:grpSpPr>
            <p:sp>
              <p:nvSpPr>
                <p:cNvPr id="138" name=""/>
                <p:cNvSpPr/>
                <p:nvPr/>
              </p:nvSpPr>
              <p:spPr>
                <a:xfrm>
                  <a:off x="4344120" y="411444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4344120" y="4114440"/>
                  <a:ext cx="540000" cy="303120"/>
                  <a:chOff x="4344120" y="4114440"/>
                  <a:chExt cx="540000" cy="303120"/>
                </a:xfrm>
              </p:grpSpPr>
              <p:sp>
                <p:nvSpPr>
                  <p:cNvPr id="140" name=""/>
                  <p:cNvSpPr/>
                  <p:nvPr/>
                </p:nvSpPr>
                <p:spPr>
                  <a:xfrm>
                    <a:off x="4362120" y="411444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344120" y="411444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4884120" y="4114440"/>
                <a:ext cx="734040" cy="303120"/>
                <a:chOff x="4884120" y="4114440"/>
                <a:chExt cx="734040" cy="303120"/>
              </a:xfrm>
            </p:grpSpPr>
            <p:sp>
              <p:nvSpPr>
                <p:cNvPr id="143" name=""/>
                <p:cNvSpPr/>
                <p:nvPr/>
              </p:nvSpPr>
              <p:spPr>
                <a:xfrm>
                  <a:off x="4884120" y="411444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884120" y="4114440"/>
                  <a:ext cx="734040" cy="303120"/>
                  <a:chOff x="4884120" y="4114440"/>
                  <a:chExt cx="734040" cy="303120"/>
                </a:xfrm>
              </p:grpSpPr>
              <p:sp>
                <p:nvSpPr>
                  <p:cNvPr id="145" name=""/>
                  <p:cNvSpPr/>
                  <p:nvPr/>
                </p:nvSpPr>
                <p:spPr>
                  <a:xfrm>
                    <a:off x="4902120" y="411444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4884120" y="411444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5618520" y="4114440"/>
                <a:ext cx="1128600" cy="303120"/>
                <a:chOff x="5618520" y="4114440"/>
                <a:chExt cx="1128600" cy="303120"/>
              </a:xfrm>
            </p:grpSpPr>
            <p:sp>
              <p:nvSpPr>
                <p:cNvPr id="148" name=""/>
                <p:cNvSpPr/>
                <p:nvPr/>
              </p:nvSpPr>
              <p:spPr>
                <a:xfrm>
                  <a:off x="5618520" y="411444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5618520" y="4114440"/>
                  <a:ext cx="1128600" cy="303120"/>
                  <a:chOff x="5618520" y="4114440"/>
                  <a:chExt cx="1128600" cy="303120"/>
                </a:xfrm>
              </p:grpSpPr>
              <p:sp>
                <p:nvSpPr>
                  <p:cNvPr id="150" name=""/>
                  <p:cNvSpPr/>
                  <p:nvPr/>
                </p:nvSpPr>
                <p:spPr>
                  <a:xfrm>
                    <a:off x="5636520" y="411444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618520" y="411444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6747120" y="4114440"/>
                <a:ext cx="642960" cy="303120"/>
                <a:chOff x="6747120" y="4114440"/>
                <a:chExt cx="642960" cy="303120"/>
              </a:xfrm>
            </p:grpSpPr>
            <p:sp>
              <p:nvSpPr>
                <p:cNvPr id="153" name=""/>
                <p:cNvSpPr/>
                <p:nvPr/>
              </p:nvSpPr>
              <p:spPr>
                <a:xfrm>
                  <a:off x="6747120" y="411444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6747120" y="4114440"/>
                  <a:ext cx="642960" cy="303120"/>
                  <a:chOff x="6747120" y="4114440"/>
                  <a:chExt cx="642960" cy="303120"/>
                </a:xfrm>
              </p:grpSpPr>
              <p:sp>
                <p:nvSpPr>
                  <p:cNvPr id="155" name=""/>
                  <p:cNvSpPr/>
                  <p:nvPr/>
                </p:nvSpPr>
                <p:spPr>
                  <a:xfrm>
                    <a:off x="6765120" y="411444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6747120" y="411444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7" name=""/>
            <p:cNvSpPr/>
            <p:nvPr/>
          </p:nvSpPr>
          <p:spPr>
            <a:xfrm>
              <a:off x="4343400" y="3809880"/>
              <a:ext cx="3048120" cy="6098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638680" y="4876920"/>
            <a:ext cx="1143000" cy="380880"/>
            <a:chOff x="5638680" y="4876920"/>
            <a:chExt cx="1143000" cy="380880"/>
          </a:xfrm>
        </p:grpSpPr>
        <p:grpSp>
          <p:nvGrpSpPr>
            <p:cNvPr id="159" name=""/>
            <p:cNvGrpSpPr/>
            <p:nvPr/>
          </p:nvGrpSpPr>
          <p:grpSpPr>
            <a:xfrm>
              <a:off x="5638680" y="4877640"/>
              <a:ext cx="1142640" cy="378720"/>
              <a:chOff x="5638680" y="4877640"/>
              <a:chExt cx="1142640" cy="378720"/>
            </a:xfrm>
          </p:grpSpPr>
          <p:grpSp>
            <p:nvGrpSpPr>
              <p:cNvPr id="160" name=""/>
              <p:cNvGrpSpPr/>
              <p:nvPr/>
            </p:nvGrpSpPr>
            <p:grpSpPr>
              <a:xfrm>
                <a:off x="5638680" y="4877640"/>
                <a:ext cx="202320" cy="189360"/>
                <a:chOff x="5638680" y="4877640"/>
                <a:chExt cx="202320" cy="189360"/>
              </a:xfrm>
            </p:grpSpPr>
            <p:sp>
              <p:nvSpPr>
                <p:cNvPr id="161" name=""/>
                <p:cNvSpPr/>
                <p:nvPr/>
              </p:nvSpPr>
              <p:spPr>
                <a:xfrm>
                  <a:off x="5638680" y="487764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5638680" y="4877640"/>
                  <a:ext cx="202320" cy="189360"/>
                  <a:chOff x="5638680" y="4877640"/>
                  <a:chExt cx="202320" cy="189360"/>
                </a:xfrm>
              </p:grpSpPr>
              <p:sp>
                <p:nvSpPr>
                  <p:cNvPr id="163" name=""/>
                  <p:cNvSpPr/>
                  <p:nvPr/>
                </p:nvSpPr>
                <p:spPr>
                  <a:xfrm>
                    <a:off x="5645160" y="487764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164" name=""/>
                  <p:cNvSpPr/>
                  <p:nvPr/>
                </p:nvSpPr>
                <p:spPr>
                  <a:xfrm>
                    <a:off x="5638680" y="487764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5841000" y="4877640"/>
                <a:ext cx="275400" cy="189360"/>
                <a:chOff x="5841000" y="4877640"/>
                <a:chExt cx="275400" cy="189360"/>
              </a:xfrm>
            </p:grpSpPr>
            <p:sp>
              <p:nvSpPr>
                <p:cNvPr id="166" name=""/>
                <p:cNvSpPr/>
                <p:nvPr/>
              </p:nvSpPr>
              <p:spPr>
                <a:xfrm>
                  <a:off x="5841000" y="487764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841000" y="4877640"/>
                  <a:ext cx="275400" cy="189360"/>
                  <a:chOff x="5841000" y="4877640"/>
                  <a:chExt cx="275400" cy="189360"/>
                </a:xfrm>
              </p:grpSpPr>
              <p:sp>
                <p:nvSpPr>
                  <p:cNvPr id="168" name=""/>
                  <p:cNvSpPr/>
                  <p:nvPr/>
                </p:nvSpPr>
                <p:spPr>
                  <a:xfrm>
                    <a:off x="5847480" y="487764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Vision (Goals)</a:t>
                    </a:r>
                    <a:endParaRPr b="0" lang="en-US" sz="400" spc="-1" strike="noStrike">
                      <a:solidFill>
                        <a:srgbClr val="000000"/>
                      </a:solidFill>
                      <a:latin typeface="Times New Roman"/>
                    </a:endParaRPr>
                  </a:p>
                </p:txBody>
              </p:sp>
              <p:sp>
                <p:nvSpPr>
                  <p:cNvPr id="169" name=""/>
                  <p:cNvSpPr/>
                  <p:nvPr/>
                </p:nvSpPr>
                <p:spPr>
                  <a:xfrm>
                    <a:off x="5841000" y="487764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116760" y="4877640"/>
                <a:ext cx="423360" cy="189360"/>
                <a:chOff x="6116760" y="4877640"/>
                <a:chExt cx="423360" cy="189360"/>
              </a:xfrm>
            </p:grpSpPr>
            <p:sp>
              <p:nvSpPr>
                <p:cNvPr id="171" name=""/>
                <p:cNvSpPr/>
                <p:nvPr/>
              </p:nvSpPr>
              <p:spPr>
                <a:xfrm>
                  <a:off x="6116760" y="487764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16760" y="4877640"/>
                  <a:ext cx="423360" cy="189360"/>
                  <a:chOff x="6116760" y="4877640"/>
                  <a:chExt cx="423360" cy="189360"/>
                </a:xfrm>
              </p:grpSpPr>
              <p:sp>
                <p:nvSpPr>
                  <p:cNvPr id="173" name=""/>
                  <p:cNvSpPr/>
                  <p:nvPr/>
                </p:nvSpPr>
                <p:spPr>
                  <a:xfrm>
                    <a:off x="6123240" y="487764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rategy</a:t>
                    </a:r>
                    <a:endParaRPr b="0" lang="en-US" sz="400" spc="-1" strike="noStrike">
                      <a:solidFill>
                        <a:srgbClr val="000000"/>
                      </a:solidFill>
                      <a:latin typeface="Times New Roman"/>
                    </a:endParaRPr>
                  </a:p>
                </p:txBody>
              </p:sp>
              <p:sp>
                <p:nvSpPr>
                  <p:cNvPr id="174" name=""/>
                  <p:cNvSpPr/>
                  <p:nvPr/>
                </p:nvSpPr>
                <p:spPr>
                  <a:xfrm>
                    <a:off x="6116760" y="487764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6540120" y="4877640"/>
                <a:ext cx="241200" cy="189360"/>
                <a:chOff x="6540120" y="4877640"/>
                <a:chExt cx="241200" cy="189360"/>
              </a:xfrm>
            </p:grpSpPr>
            <p:sp>
              <p:nvSpPr>
                <p:cNvPr id="176" name=""/>
                <p:cNvSpPr/>
                <p:nvPr/>
              </p:nvSpPr>
              <p:spPr>
                <a:xfrm>
                  <a:off x="6540120" y="487764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6540120" y="4877640"/>
                  <a:ext cx="241200" cy="189360"/>
                  <a:chOff x="6540120" y="4877640"/>
                  <a:chExt cx="241200" cy="189360"/>
                </a:xfrm>
              </p:grpSpPr>
              <p:sp>
                <p:nvSpPr>
                  <p:cNvPr id="178" name=""/>
                  <p:cNvSpPr/>
                  <p:nvPr/>
                </p:nvSpPr>
                <p:spPr>
                  <a:xfrm>
                    <a:off x="6546600" y="487764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s</a:t>
                    </a:r>
                    <a:endParaRPr b="0" lang="en-US" sz="400" spc="-1" strike="noStrike">
                      <a:solidFill>
                        <a:srgbClr val="000000"/>
                      </a:solidFill>
                      <a:latin typeface="Times New Roman"/>
                    </a:endParaRPr>
                  </a:p>
                </p:txBody>
              </p:sp>
              <p:sp>
                <p:nvSpPr>
                  <p:cNvPr id="179" name=""/>
                  <p:cNvSpPr/>
                  <p:nvPr/>
                </p:nvSpPr>
                <p:spPr>
                  <a:xfrm>
                    <a:off x="6540120" y="487764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5638680" y="5067000"/>
                <a:ext cx="202320" cy="189360"/>
                <a:chOff x="5638680" y="5067000"/>
                <a:chExt cx="202320" cy="189360"/>
              </a:xfrm>
            </p:grpSpPr>
            <p:sp>
              <p:nvSpPr>
                <p:cNvPr id="181" name=""/>
                <p:cNvSpPr/>
                <p:nvPr/>
              </p:nvSpPr>
              <p:spPr>
                <a:xfrm>
                  <a:off x="5638680" y="506700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5638680" y="5067000"/>
                  <a:ext cx="202320" cy="189360"/>
                  <a:chOff x="5638680" y="5067000"/>
                  <a:chExt cx="202320" cy="189360"/>
                </a:xfrm>
              </p:grpSpPr>
              <p:sp>
                <p:nvSpPr>
                  <p:cNvPr id="183" name=""/>
                  <p:cNvSpPr/>
                  <p:nvPr/>
                </p:nvSpPr>
                <p:spPr>
                  <a:xfrm>
                    <a:off x="5645160" y="506700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5638680" y="506700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5841000" y="5067000"/>
                <a:ext cx="275400" cy="189360"/>
                <a:chOff x="5841000" y="5067000"/>
                <a:chExt cx="275400" cy="189360"/>
              </a:xfrm>
            </p:grpSpPr>
            <p:sp>
              <p:nvSpPr>
                <p:cNvPr id="186" name=""/>
                <p:cNvSpPr/>
                <p:nvPr/>
              </p:nvSpPr>
              <p:spPr>
                <a:xfrm>
                  <a:off x="5841000" y="506700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841000" y="5067000"/>
                  <a:ext cx="275400" cy="189360"/>
                  <a:chOff x="5841000" y="5067000"/>
                  <a:chExt cx="275400" cy="189360"/>
                </a:xfrm>
              </p:grpSpPr>
              <p:sp>
                <p:nvSpPr>
                  <p:cNvPr id="188" name=""/>
                  <p:cNvSpPr/>
                  <p:nvPr/>
                </p:nvSpPr>
                <p:spPr>
                  <a:xfrm>
                    <a:off x="5847480" y="506700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5841000" y="506700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116760" y="5067000"/>
                <a:ext cx="423360" cy="189360"/>
                <a:chOff x="6116760" y="5067000"/>
                <a:chExt cx="423360" cy="189360"/>
              </a:xfrm>
            </p:grpSpPr>
            <p:sp>
              <p:nvSpPr>
                <p:cNvPr id="191" name=""/>
                <p:cNvSpPr/>
                <p:nvPr/>
              </p:nvSpPr>
              <p:spPr>
                <a:xfrm>
                  <a:off x="6116760" y="506700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116760" y="5067000"/>
                  <a:ext cx="423360" cy="189360"/>
                  <a:chOff x="6116760" y="5067000"/>
                  <a:chExt cx="423360" cy="189360"/>
                </a:xfrm>
              </p:grpSpPr>
              <p:sp>
                <p:nvSpPr>
                  <p:cNvPr id="193" name=""/>
                  <p:cNvSpPr/>
                  <p:nvPr/>
                </p:nvSpPr>
                <p:spPr>
                  <a:xfrm>
                    <a:off x="6123240" y="506700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6116760" y="506700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
              <p:cNvGrpSpPr/>
              <p:nvPr/>
            </p:nvGrpSpPr>
            <p:grpSpPr>
              <a:xfrm>
                <a:off x="6540120" y="5067000"/>
                <a:ext cx="241200" cy="189360"/>
                <a:chOff x="6540120" y="5067000"/>
                <a:chExt cx="241200" cy="189360"/>
              </a:xfrm>
            </p:grpSpPr>
            <p:sp>
              <p:nvSpPr>
                <p:cNvPr id="196" name=""/>
                <p:cNvSpPr/>
                <p:nvPr/>
              </p:nvSpPr>
              <p:spPr>
                <a:xfrm>
                  <a:off x="6540120" y="506700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540120" y="5067000"/>
                  <a:ext cx="241200" cy="189360"/>
                  <a:chOff x="6540120" y="5067000"/>
                  <a:chExt cx="241200" cy="189360"/>
                </a:xfrm>
              </p:grpSpPr>
              <p:sp>
                <p:nvSpPr>
                  <p:cNvPr id="198" name=""/>
                  <p:cNvSpPr/>
                  <p:nvPr/>
                </p:nvSpPr>
                <p:spPr>
                  <a:xfrm>
                    <a:off x="6546600" y="506700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6540120" y="506700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0" name=""/>
            <p:cNvSpPr/>
            <p:nvPr/>
          </p:nvSpPr>
          <p:spPr>
            <a:xfrm>
              <a:off x="5638680" y="4876920"/>
              <a:ext cx="114300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095880" y="5715000"/>
            <a:ext cx="533520" cy="380880"/>
            <a:chOff x="6095880" y="5715000"/>
            <a:chExt cx="533520" cy="380880"/>
          </a:xfrm>
        </p:grpSpPr>
        <p:grpSp>
          <p:nvGrpSpPr>
            <p:cNvPr id="202" name=""/>
            <p:cNvGrpSpPr/>
            <p:nvPr/>
          </p:nvGrpSpPr>
          <p:grpSpPr>
            <a:xfrm>
              <a:off x="6095880" y="5715720"/>
              <a:ext cx="533520" cy="378720"/>
              <a:chOff x="6095880" y="5715720"/>
              <a:chExt cx="533520" cy="378720"/>
            </a:xfrm>
          </p:grpSpPr>
          <p:grpSp>
            <p:nvGrpSpPr>
              <p:cNvPr id="203" name=""/>
              <p:cNvGrpSpPr/>
              <p:nvPr/>
            </p:nvGrpSpPr>
            <p:grpSpPr>
              <a:xfrm>
                <a:off x="6095880" y="5715720"/>
                <a:ext cx="94320" cy="189360"/>
                <a:chOff x="6095880" y="5715720"/>
                <a:chExt cx="94320" cy="189360"/>
              </a:xfrm>
            </p:grpSpPr>
            <p:sp>
              <p:nvSpPr>
                <p:cNvPr id="204" name=""/>
                <p:cNvSpPr/>
                <p:nvPr/>
              </p:nvSpPr>
              <p:spPr>
                <a:xfrm>
                  <a:off x="6095880" y="571572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095880" y="5715720"/>
                  <a:ext cx="94320" cy="189360"/>
                  <a:chOff x="6095880" y="5715720"/>
                  <a:chExt cx="94320" cy="189360"/>
                </a:xfrm>
              </p:grpSpPr>
              <p:sp>
                <p:nvSpPr>
                  <p:cNvPr id="206" name=""/>
                  <p:cNvSpPr/>
                  <p:nvPr/>
                </p:nvSpPr>
                <p:spPr>
                  <a:xfrm>
                    <a:off x="6098760" y="571572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07" name=""/>
                  <p:cNvSpPr/>
                  <p:nvPr/>
                </p:nvSpPr>
                <p:spPr>
                  <a:xfrm>
                    <a:off x="6095880" y="571572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6190200" y="5715720"/>
                <a:ext cx="128520" cy="189360"/>
                <a:chOff x="6190200" y="5715720"/>
                <a:chExt cx="128520" cy="189360"/>
              </a:xfrm>
            </p:grpSpPr>
            <p:sp>
              <p:nvSpPr>
                <p:cNvPr id="209" name=""/>
                <p:cNvSpPr/>
                <p:nvPr/>
              </p:nvSpPr>
              <p:spPr>
                <a:xfrm>
                  <a:off x="6190200" y="571572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6190200" y="5715720"/>
                  <a:ext cx="128520" cy="189360"/>
                  <a:chOff x="6190200" y="5715720"/>
                  <a:chExt cx="128520" cy="189360"/>
                </a:xfrm>
              </p:grpSpPr>
              <p:sp>
                <p:nvSpPr>
                  <p:cNvPr id="211" name=""/>
                  <p:cNvSpPr/>
                  <p:nvPr/>
                </p:nvSpPr>
                <p:spPr>
                  <a:xfrm>
                    <a:off x="6193080" y="571572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90200" y="571572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6319080" y="5715720"/>
                <a:ext cx="197640" cy="189360"/>
                <a:chOff x="6319080" y="5715720"/>
                <a:chExt cx="197640" cy="189360"/>
              </a:xfrm>
            </p:grpSpPr>
            <p:sp>
              <p:nvSpPr>
                <p:cNvPr id="214" name=""/>
                <p:cNvSpPr/>
                <p:nvPr/>
              </p:nvSpPr>
              <p:spPr>
                <a:xfrm>
                  <a:off x="6319080" y="571572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19080" y="5715720"/>
                  <a:ext cx="197640" cy="189360"/>
                  <a:chOff x="6319080" y="5715720"/>
                  <a:chExt cx="197640" cy="189360"/>
                </a:xfrm>
              </p:grpSpPr>
              <p:sp>
                <p:nvSpPr>
                  <p:cNvPr id="216" name=""/>
                  <p:cNvSpPr/>
                  <p:nvPr/>
                </p:nvSpPr>
                <p:spPr>
                  <a:xfrm>
                    <a:off x="6321960" y="571572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319080" y="571572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6516720" y="5715720"/>
                <a:ext cx="112680" cy="189360"/>
                <a:chOff x="6516720" y="5715720"/>
                <a:chExt cx="112680" cy="189360"/>
              </a:xfrm>
            </p:grpSpPr>
            <p:sp>
              <p:nvSpPr>
                <p:cNvPr id="219" name=""/>
                <p:cNvSpPr/>
                <p:nvPr/>
              </p:nvSpPr>
              <p:spPr>
                <a:xfrm>
                  <a:off x="6516720" y="571572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6516720" y="5715720"/>
                  <a:ext cx="112680" cy="189360"/>
                  <a:chOff x="6516720" y="5715720"/>
                  <a:chExt cx="112680" cy="189360"/>
                </a:xfrm>
              </p:grpSpPr>
              <p:sp>
                <p:nvSpPr>
                  <p:cNvPr id="221" name=""/>
                  <p:cNvSpPr/>
                  <p:nvPr/>
                </p:nvSpPr>
                <p:spPr>
                  <a:xfrm>
                    <a:off x="6519600" y="571572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516720" y="571572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6095880" y="5905080"/>
                <a:ext cx="94320" cy="189360"/>
                <a:chOff x="6095880" y="5905080"/>
                <a:chExt cx="94320" cy="189360"/>
              </a:xfrm>
            </p:grpSpPr>
            <p:sp>
              <p:nvSpPr>
                <p:cNvPr id="224" name=""/>
                <p:cNvSpPr/>
                <p:nvPr/>
              </p:nvSpPr>
              <p:spPr>
                <a:xfrm>
                  <a:off x="6095880" y="590508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095880" y="5905080"/>
                  <a:ext cx="94320" cy="189360"/>
                  <a:chOff x="6095880" y="5905080"/>
                  <a:chExt cx="94320" cy="189360"/>
                </a:xfrm>
              </p:grpSpPr>
              <p:sp>
                <p:nvSpPr>
                  <p:cNvPr id="226" name=""/>
                  <p:cNvSpPr/>
                  <p:nvPr/>
                </p:nvSpPr>
                <p:spPr>
                  <a:xfrm>
                    <a:off x="6098760" y="590508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6095880" y="590508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6190200" y="5905080"/>
                <a:ext cx="128520" cy="189360"/>
                <a:chOff x="6190200" y="5905080"/>
                <a:chExt cx="128520" cy="189360"/>
              </a:xfrm>
            </p:grpSpPr>
            <p:sp>
              <p:nvSpPr>
                <p:cNvPr id="229" name=""/>
                <p:cNvSpPr/>
                <p:nvPr/>
              </p:nvSpPr>
              <p:spPr>
                <a:xfrm>
                  <a:off x="6190200" y="590508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6190200" y="5905080"/>
                  <a:ext cx="128520" cy="189360"/>
                  <a:chOff x="6190200" y="5905080"/>
                  <a:chExt cx="128520" cy="189360"/>
                </a:xfrm>
              </p:grpSpPr>
              <p:sp>
                <p:nvSpPr>
                  <p:cNvPr id="231" name=""/>
                  <p:cNvSpPr/>
                  <p:nvPr/>
                </p:nvSpPr>
                <p:spPr>
                  <a:xfrm>
                    <a:off x="6193080" y="590508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6190200" y="590508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6319080" y="5905080"/>
                <a:ext cx="197640" cy="189360"/>
                <a:chOff x="6319080" y="5905080"/>
                <a:chExt cx="197640" cy="189360"/>
              </a:xfrm>
            </p:grpSpPr>
            <p:sp>
              <p:nvSpPr>
                <p:cNvPr id="234" name=""/>
                <p:cNvSpPr/>
                <p:nvPr/>
              </p:nvSpPr>
              <p:spPr>
                <a:xfrm>
                  <a:off x="6319080" y="590508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319080" y="5905080"/>
                  <a:ext cx="197640" cy="189360"/>
                  <a:chOff x="6319080" y="5905080"/>
                  <a:chExt cx="197640" cy="189360"/>
                </a:xfrm>
              </p:grpSpPr>
              <p:sp>
                <p:nvSpPr>
                  <p:cNvPr id="236" name=""/>
                  <p:cNvSpPr/>
                  <p:nvPr/>
                </p:nvSpPr>
                <p:spPr>
                  <a:xfrm>
                    <a:off x="6321960" y="590508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319080" y="590508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6516720" y="5905080"/>
                <a:ext cx="112680" cy="189360"/>
                <a:chOff x="6516720" y="5905080"/>
                <a:chExt cx="112680" cy="189360"/>
              </a:xfrm>
            </p:grpSpPr>
            <p:sp>
              <p:nvSpPr>
                <p:cNvPr id="239" name=""/>
                <p:cNvSpPr/>
                <p:nvPr/>
              </p:nvSpPr>
              <p:spPr>
                <a:xfrm>
                  <a:off x="6516720" y="590508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6516720" y="5905080"/>
                  <a:ext cx="112680" cy="189360"/>
                  <a:chOff x="6516720" y="5905080"/>
                  <a:chExt cx="112680" cy="189360"/>
                </a:xfrm>
              </p:grpSpPr>
              <p:sp>
                <p:nvSpPr>
                  <p:cNvPr id="241" name=""/>
                  <p:cNvSpPr/>
                  <p:nvPr/>
                </p:nvSpPr>
                <p:spPr>
                  <a:xfrm>
                    <a:off x="6519600" y="590508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6516720" y="590508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3" name=""/>
            <p:cNvSpPr/>
            <p:nvPr/>
          </p:nvSpPr>
          <p:spPr>
            <a:xfrm>
              <a:off x="6095880" y="5715000"/>
              <a:ext cx="53352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836640" y="317196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try of Education</a:t>
            </a:r>
            <a:endParaRPr b="0" lang="en-US" sz="2000" spc="-1" strike="noStrike">
              <a:solidFill>
                <a:srgbClr val="000000"/>
              </a:solidFill>
              <a:latin typeface="Times New Roman"/>
            </a:endParaRPr>
          </a:p>
        </p:txBody>
      </p:sp>
      <p:sp>
        <p:nvSpPr>
          <p:cNvPr id="245" name=""/>
          <p:cNvSpPr/>
          <p:nvPr/>
        </p:nvSpPr>
        <p:spPr>
          <a:xfrm>
            <a:off x="1296000" y="3886200"/>
            <a:ext cx="2960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and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Literacy Initiative</a:t>
            </a:r>
            <a:endParaRPr b="0" lang="en-US" sz="1600" spc="-1" strike="noStrike">
              <a:solidFill>
                <a:srgbClr val="000000"/>
              </a:solidFill>
              <a:latin typeface="Times New Roman"/>
            </a:endParaRPr>
          </a:p>
        </p:txBody>
      </p:sp>
      <p:sp>
        <p:nvSpPr>
          <p:cNvPr id="246" name=""/>
          <p:cNvSpPr/>
          <p:nvPr/>
        </p:nvSpPr>
        <p:spPr>
          <a:xfrm>
            <a:off x="4724640" y="49528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ard</a:t>
            </a:r>
            <a:endParaRPr b="0" lang="en-US" sz="1400" spc="-1" strike="noStrike">
              <a:solidFill>
                <a:srgbClr val="000000"/>
              </a:solidFill>
              <a:latin typeface="Times New Roman"/>
            </a:endParaRPr>
          </a:p>
        </p:txBody>
      </p:sp>
      <p:sp>
        <p:nvSpPr>
          <p:cNvPr id="247" name=""/>
          <p:cNvSpPr/>
          <p:nvPr/>
        </p:nvSpPr>
        <p:spPr>
          <a:xfrm>
            <a:off x="5105160" y="5791320"/>
            <a:ext cx="64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a:t>
            </a:r>
            <a:endParaRPr b="0" lang="en-US" sz="1200" spc="-1" strike="noStrike">
              <a:solidFill>
                <a:srgbClr val="000000"/>
              </a:solidFill>
              <a:latin typeface="Times New Roman"/>
            </a:endParaRPr>
          </a:p>
        </p:txBody>
      </p:sp>
      <p:grpSp>
        <p:nvGrpSpPr>
          <p:cNvPr id="248" name=""/>
          <p:cNvGrpSpPr/>
          <p:nvPr/>
        </p:nvGrpSpPr>
        <p:grpSpPr>
          <a:xfrm>
            <a:off x="6400800" y="6400800"/>
            <a:ext cx="152280" cy="304920"/>
            <a:chOff x="6400800" y="6400800"/>
            <a:chExt cx="152280" cy="304920"/>
          </a:xfrm>
        </p:grpSpPr>
        <p:grpSp>
          <p:nvGrpSpPr>
            <p:cNvPr id="249" name=""/>
            <p:cNvGrpSpPr/>
            <p:nvPr/>
          </p:nvGrpSpPr>
          <p:grpSpPr>
            <a:xfrm>
              <a:off x="6400800" y="6401520"/>
              <a:ext cx="152280" cy="303120"/>
              <a:chOff x="6400800" y="6401520"/>
              <a:chExt cx="152280" cy="303120"/>
            </a:xfrm>
          </p:grpSpPr>
          <p:grpSp>
            <p:nvGrpSpPr>
              <p:cNvPr id="250" name=""/>
              <p:cNvGrpSpPr/>
              <p:nvPr/>
            </p:nvGrpSpPr>
            <p:grpSpPr>
              <a:xfrm>
                <a:off x="6400800" y="6401520"/>
                <a:ext cx="27000" cy="151560"/>
                <a:chOff x="6400800" y="6401520"/>
                <a:chExt cx="27000" cy="151560"/>
              </a:xfrm>
            </p:grpSpPr>
            <p:sp>
              <p:nvSpPr>
                <p:cNvPr id="251" name=""/>
                <p:cNvSpPr/>
                <p:nvPr/>
              </p:nvSpPr>
              <p:spPr>
                <a:xfrm>
                  <a:off x="6400800" y="640152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400800" y="6401520"/>
                  <a:ext cx="27000" cy="151560"/>
                  <a:chOff x="6400800" y="6401520"/>
                  <a:chExt cx="27000" cy="151560"/>
                </a:xfrm>
              </p:grpSpPr>
              <p:sp>
                <p:nvSpPr>
                  <p:cNvPr id="253" name=""/>
                  <p:cNvSpPr/>
                  <p:nvPr/>
                </p:nvSpPr>
                <p:spPr>
                  <a:xfrm>
                    <a:off x="6401520" y="640152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54" name=""/>
                  <p:cNvSpPr/>
                  <p:nvPr/>
                </p:nvSpPr>
                <p:spPr>
                  <a:xfrm>
                    <a:off x="6400800" y="640152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427800" y="6401520"/>
                <a:ext cx="36720" cy="151560"/>
                <a:chOff x="6427800" y="6401520"/>
                <a:chExt cx="36720" cy="151560"/>
              </a:xfrm>
            </p:grpSpPr>
            <p:sp>
              <p:nvSpPr>
                <p:cNvPr id="256" name=""/>
                <p:cNvSpPr/>
                <p:nvPr/>
              </p:nvSpPr>
              <p:spPr>
                <a:xfrm>
                  <a:off x="6427800" y="640152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6427800" y="6401520"/>
                  <a:ext cx="36720" cy="151560"/>
                  <a:chOff x="6427800" y="6401520"/>
                  <a:chExt cx="36720" cy="151560"/>
                </a:xfrm>
              </p:grpSpPr>
              <p:sp>
                <p:nvSpPr>
                  <p:cNvPr id="258" name=""/>
                  <p:cNvSpPr/>
                  <p:nvPr/>
                </p:nvSpPr>
                <p:spPr>
                  <a:xfrm>
                    <a:off x="6428520" y="640152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427800" y="640152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6464520" y="6401520"/>
                <a:ext cx="56520" cy="151560"/>
                <a:chOff x="6464520" y="6401520"/>
                <a:chExt cx="56520" cy="151560"/>
              </a:xfrm>
            </p:grpSpPr>
            <p:sp>
              <p:nvSpPr>
                <p:cNvPr id="261" name=""/>
                <p:cNvSpPr/>
                <p:nvPr/>
              </p:nvSpPr>
              <p:spPr>
                <a:xfrm>
                  <a:off x="6464520" y="640152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6464520" y="6401520"/>
                  <a:ext cx="56520" cy="151560"/>
                  <a:chOff x="6464520" y="6401520"/>
                  <a:chExt cx="56520" cy="151560"/>
                </a:xfrm>
              </p:grpSpPr>
              <p:sp>
                <p:nvSpPr>
                  <p:cNvPr id="263" name=""/>
                  <p:cNvSpPr/>
                  <p:nvPr/>
                </p:nvSpPr>
                <p:spPr>
                  <a:xfrm>
                    <a:off x="6465240" y="640152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464520" y="640152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6521040" y="6401520"/>
                <a:ext cx="32040" cy="151560"/>
                <a:chOff x="6521040" y="6401520"/>
                <a:chExt cx="32040" cy="151560"/>
              </a:xfrm>
            </p:grpSpPr>
            <p:sp>
              <p:nvSpPr>
                <p:cNvPr id="266" name=""/>
                <p:cNvSpPr/>
                <p:nvPr/>
              </p:nvSpPr>
              <p:spPr>
                <a:xfrm>
                  <a:off x="6521040" y="640152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6521040" y="6401520"/>
                  <a:ext cx="32040" cy="151560"/>
                  <a:chOff x="6521040" y="6401520"/>
                  <a:chExt cx="32040" cy="151560"/>
                </a:xfrm>
              </p:grpSpPr>
              <p:sp>
                <p:nvSpPr>
                  <p:cNvPr id="268" name=""/>
                  <p:cNvSpPr/>
                  <p:nvPr/>
                </p:nvSpPr>
                <p:spPr>
                  <a:xfrm>
                    <a:off x="6521760" y="640152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521040" y="640152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6400800" y="6553080"/>
                <a:ext cx="27000" cy="151560"/>
                <a:chOff x="6400800" y="6553080"/>
                <a:chExt cx="27000" cy="151560"/>
              </a:xfrm>
            </p:grpSpPr>
            <p:sp>
              <p:nvSpPr>
                <p:cNvPr id="271" name=""/>
                <p:cNvSpPr/>
                <p:nvPr/>
              </p:nvSpPr>
              <p:spPr>
                <a:xfrm>
                  <a:off x="6400800" y="655308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400800" y="6553080"/>
                  <a:ext cx="27000" cy="151560"/>
                  <a:chOff x="6400800" y="6553080"/>
                  <a:chExt cx="27000" cy="151560"/>
                </a:xfrm>
              </p:grpSpPr>
              <p:sp>
                <p:nvSpPr>
                  <p:cNvPr id="273" name=""/>
                  <p:cNvSpPr/>
                  <p:nvPr/>
                </p:nvSpPr>
                <p:spPr>
                  <a:xfrm>
                    <a:off x="6401520" y="655308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400800" y="655308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6427800" y="6553080"/>
                <a:ext cx="36720" cy="151560"/>
                <a:chOff x="6427800" y="6553080"/>
                <a:chExt cx="36720" cy="151560"/>
              </a:xfrm>
            </p:grpSpPr>
            <p:sp>
              <p:nvSpPr>
                <p:cNvPr id="276" name=""/>
                <p:cNvSpPr/>
                <p:nvPr/>
              </p:nvSpPr>
              <p:spPr>
                <a:xfrm>
                  <a:off x="6427800" y="655308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427800" y="6553080"/>
                  <a:ext cx="36720" cy="151560"/>
                  <a:chOff x="6427800" y="6553080"/>
                  <a:chExt cx="36720" cy="151560"/>
                </a:xfrm>
              </p:grpSpPr>
              <p:sp>
                <p:nvSpPr>
                  <p:cNvPr id="278" name=""/>
                  <p:cNvSpPr/>
                  <p:nvPr/>
                </p:nvSpPr>
                <p:spPr>
                  <a:xfrm>
                    <a:off x="6428520" y="655308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6427800" y="655308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6464520" y="6553080"/>
                <a:ext cx="56520" cy="151560"/>
                <a:chOff x="6464520" y="6553080"/>
                <a:chExt cx="56520" cy="151560"/>
              </a:xfrm>
            </p:grpSpPr>
            <p:sp>
              <p:nvSpPr>
                <p:cNvPr id="281" name=""/>
                <p:cNvSpPr/>
                <p:nvPr/>
              </p:nvSpPr>
              <p:spPr>
                <a:xfrm>
                  <a:off x="6464520" y="655308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6464520" y="6553080"/>
                  <a:ext cx="56520" cy="151560"/>
                  <a:chOff x="6464520" y="6553080"/>
                  <a:chExt cx="56520" cy="151560"/>
                </a:xfrm>
              </p:grpSpPr>
              <p:sp>
                <p:nvSpPr>
                  <p:cNvPr id="283" name=""/>
                  <p:cNvSpPr/>
                  <p:nvPr/>
                </p:nvSpPr>
                <p:spPr>
                  <a:xfrm>
                    <a:off x="6465240" y="655308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464520" y="655308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6521040" y="6553080"/>
                <a:ext cx="32040" cy="151560"/>
                <a:chOff x="6521040" y="6553080"/>
                <a:chExt cx="32040" cy="151560"/>
              </a:xfrm>
            </p:grpSpPr>
            <p:sp>
              <p:nvSpPr>
                <p:cNvPr id="286" name=""/>
                <p:cNvSpPr/>
                <p:nvPr/>
              </p:nvSpPr>
              <p:spPr>
                <a:xfrm>
                  <a:off x="6521040" y="655308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6521040" y="6553080"/>
                  <a:ext cx="32040" cy="151560"/>
                  <a:chOff x="6521040" y="6553080"/>
                  <a:chExt cx="32040" cy="151560"/>
                </a:xfrm>
              </p:grpSpPr>
              <p:sp>
                <p:nvSpPr>
                  <p:cNvPr id="288" name=""/>
                  <p:cNvSpPr/>
                  <p:nvPr/>
                </p:nvSpPr>
                <p:spPr>
                  <a:xfrm>
                    <a:off x="6521760" y="655308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521040" y="655308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0" name=""/>
            <p:cNvSpPr/>
            <p:nvPr/>
          </p:nvSpPr>
          <p:spPr>
            <a:xfrm>
              <a:off x="6400800" y="6400800"/>
              <a:ext cx="152280" cy="3049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5488560" y="64008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a:t>
            </a:r>
            <a:endParaRPr b="0" lang="en-US" sz="1000" spc="-1" strike="noStrike">
              <a:solidFill>
                <a:srgbClr val="000000"/>
              </a:solidFill>
              <a:latin typeface="Times New Roman"/>
            </a:endParaRPr>
          </a:p>
        </p:txBody>
      </p:sp>
      <p:sp>
        <p:nvSpPr>
          <p:cNvPr id="292" name=""/>
          <p:cNvSpPr/>
          <p:nvPr/>
        </p:nvSpPr>
        <p:spPr>
          <a:xfrm>
            <a:off x="1600200" y="2590920"/>
            <a:ext cx="1214280" cy="485640"/>
          </a:xfrm>
          <a:prstGeom prst="leftRight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57600" y="2666880"/>
            <a:ext cx="1214280" cy="486000"/>
          </a:xfrm>
          <a:prstGeom prst="leftRightArrow">
            <a:avLst>
              <a:gd name="adj1" fmla="val 50000"/>
              <a:gd name="adj2" fmla="val 497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81680" y="2590920"/>
            <a:ext cx="1214640" cy="485640"/>
          </a:xfrm>
          <a:prstGeom prst="leftRightArrow">
            <a:avLst>
              <a:gd name="adj1" fmla="val 50000"/>
              <a:gd name="adj2" fmla="val 4979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2819520"/>
            <a:ext cx="485640" cy="1214280"/>
          </a:xfrm>
          <a:prstGeom prst="upDown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5105520"/>
            <a:ext cx="380880" cy="838080"/>
          </a:xfrm>
          <a:prstGeom prst="upDownArrow">
            <a:avLst>
              <a:gd name="adj1" fmla="val 50000"/>
              <a:gd name="adj2" fmla="val 438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5880" y="4114800"/>
            <a:ext cx="381240" cy="990720"/>
          </a:xfrm>
          <a:prstGeom prst="upDownArrow">
            <a:avLst>
              <a:gd name="adj1" fmla="val 50000"/>
              <a:gd name="adj2" fmla="val 5173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24480" y="5943600"/>
            <a:ext cx="304920" cy="533520"/>
          </a:xfrm>
          <a:prstGeom prst="upDownArrow">
            <a:avLst>
              <a:gd name="adj1" fmla="val 50000"/>
              <a:gd name="adj2" fmla="val 3483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flipV="1">
            <a:off x="1980720" y="3048120"/>
            <a:ext cx="6934320" cy="3581280"/>
          </a:xfrm>
          <a:custGeom>
            <a:avLst/>
            <a:gdLst>
              <a:gd name="textAreaLeft" fmla="*/ 1213560 w 6934320"/>
              <a:gd name="textAreaRight" fmla="*/ 5027400 w 6934320"/>
              <a:gd name="textAreaTop" fmla="*/ 479520 h 3581280"/>
              <a:gd name="textAreaBottom" fmla="*/ 3101760 h 3581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2"/>
                                        </p:tgtEl>
                                        <p:attrNameLst>
                                          <p:attrName>style.visibility</p:attrName>
                                        </p:attrNameLst>
                                      </p:cBhvr>
                                      <p:to>
                                        <p:strVal val="visible"/>
                                      </p:to>
                                    </p:set>
                                    <p:animEffect filter="barn(inHorizontal)" transition="in">
                                      <p:cBhvr additive="repl">
                                        <p:cTn id="7" dur="500"/>
                                        <p:tgtEl>
                                          <p:spTgt spid="72"/>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115"/>
                                        </p:tgtEl>
                                        <p:attrNameLst>
                                          <p:attrName>style.visibility</p:attrName>
                                        </p:attrNameLst>
                                      </p:cBhvr>
                                      <p:to>
                                        <p:strVal val="visible"/>
                                      </p:to>
                                    </p:set>
                                    <p:animEffect filter="barn(inHorizontal)" transition="in">
                                      <p:cBhvr additive="repl">
                                        <p:cTn id="11" dur="1000"/>
                                        <p:tgtEl>
                                          <p:spTgt spid="115"/>
                                        </p:tgtEl>
                                      </p:cBhvr>
                                    </p:animEffect>
                                  </p:childTnLst>
                                </p:cTn>
                              </p:par>
                            </p:childTnLst>
                          </p:cTn>
                        </p:par>
                        <p:par>
                          <p:cTn id="12" fill="hold">
                            <p:stCondLst>
                              <p:cond delay="1500"/>
                            </p:stCondLst>
                            <p:childTnLst>
                              <p:par>
                                <p:cTn id="13" nodeType="afterEffect" fill="hold" presetClass="entr" presetID="16" presetSubtype="26">
                                  <p:stCondLst>
                                    <p:cond delay="0"/>
                                  </p:stCondLst>
                                  <p:childTnLst>
                                    <p:set>
                                      <p:cBhvr>
                                        <p:cTn id="14" dur="1" fill="hold">
                                          <p:stCondLst>
                                            <p:cond delay="0"/>
                                          </p:stCondLst>
                                        </p:cTn>
                                        <p:tgtEl>
                                          <p:spTgt spid="158"/>
                                        </p:tgtEl>
                                        <p:attrNameLst>
                                          <p:attrName>style.visibility</p:attrName>
                                        </p:attrNameLst>
                                      </p:cBhvr>
                                      <p:to>
                                        <p:strVal val="visible"/>
                                      </p:to>
                                    </p:set>
                                    <p:animEffect filter="barn(inHorizontal)" transition="in">
                                      <p:cBhvr additive="repl">
                                        <p:cTn id="15" dur="1000"/>
                                        <p:tgtEl>
                                          <p:spTgt spid="158"/>
                                        </p:tgtEl>
                                      </p:cBhvr>
                                    </p:animEffect>
                                  </p:childTnLst>
                                </p:cTn>
                              </p:par>
                            </p:childTnLst>
                          </p:cTn>
                        </p:par>
                        <p:par>
                          <p:cTn id="16" fill="hold">
                            <p:stCondLst>
                              <p:cond delay="2500"/>
                            </p:stCondLst>
                            <p:childTnLst>
                              <p:par>
                                <p:cTn id="17" nodeType="afterEffect" fill="hold" presetClass="entr" presetID="16" presetSubtype="26">
                                  <p:stCondLst>
                                    <p:cond delay="0"/>
                                  </p:stCondLst>
                                  <p:childTnLst>
                                    <p:set>
                                      <p:cBhvr>
                                        <p:cTn id="18" dur="1" fill="hold">
                                          <p:stCondLst>
                                            <p:cond delay="0"/>
                                          </p:stCondLst>
                                        </p:cTn>
                                        <p:tgtEl>
                                          <p:spTgt spid="201"/>
                                        </p:tgtEl>
                                        <p:attrNameLst>
                                          <p:attrName>style.visibility</p:attrName>
                                        </p:attrNameLst>
                                      </p:cBhvr>
                                      <p:to>
                                        <p:strVal val="visible"/>
                                      </p:to>
                                    </p:set>
                                    <p:animEffect filter="barn(inHorizontal)" transition="in">
                                      <p:cBhvr additive="repl">
                                        <p:cTn id="19" dur="1000"/>
                                        <p:tgtEl>
                                          <p:spTgt spid="201"/>
                                        </p:tgtEl>
                                      </p:cBhvr>
                                    </p:animEffect>
                                  </p:childTnLst>
                                </p:cTn>
                              </p:par>
                            </p:childTnLst>
                          </p:cTn>
                        </p:par>
                        <p:par>
                          <p:cTn id="20" fill="hold">
                            <p:stCondLst>
                              <p:cond delay="3500"/>
                            </p:stCondLst>
                            <p:childTnLst>
                              <p:par>
                                <p:cTn id="21" nodeType="afterEffect" fill="hold" presetClass="entr" presetID="16" presetSubtype="26">
                                  <p:stCondLst>
                                    <p:cond delay="0"/>
                                  </p:stCondLst>
                                  <p:childTnLst>
                                    <p:set>
                                      <p:cBhvr>
                                        <p:cTn id="22" dur="1" fill="hold">
                                          <p:stCondLst>
                                            <p:cond delay="0"/>
                                          </p:stCondLst>
                                        </p:cTn>
                                        <p:tgtEl>
                                          <p:spTgt spid="248"/>
                                        </p:tgtEl>
                                        <p:attrNameLst>
                                          <p:attrName>style.visibility</p:attrName>
                                        </p:attrNameLst>
                                      </p:cBhvr>
                                      <p:to>
                                        <p:strVal val="visible"/>
                                      </p:to>
                                    </p:set>
                                    <p:animEffect filter="barn(inHorizontal)" transition="in">
                                      <p:cBhvr additive="repl">
                                        <p:cTn id="23" dur="1000"/>
                                        <p:tgtEl>
                                          <p:spTgt spid="2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292"/>
                                        </p:tgtEl>
                                        <p:attrNameLst>
                                          <p:attrName>style.visibility</p:attrName>
                                        </p:attrNameLst>
                                      </p:cBhvr>
                                      <p:to>
                                        <p:strVal val="visible"/>
                                      </p:to>
                                    </p:set>
                                    <p:animEffect filter="barn(inHorizontal)" transition="in">
                                      <p:cBhvr additive="repl">
                                        <p:cTn id="28" dur="500"/>
                                        <p:tgtEl>
                                          <p:spTgt spid="2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92"/>
                                        </p:tgtEl>
                                        <p:attrNameLst>
                                          <p:attrName>style.visibility</p:attrName>
                                        </p:attrNameLst>
                                      </p:cBhvr>
                                      <p:to>
                                        <p:strVal val="visible"/>
                                      </p:to>
                                    </p:set>
                                    <p:animEffect filter="barn(inHorizontal)" transition="in">
                                      <p:cBhvr additive="repl">
                                        <p:cTn id="33" dur="500"/>
                                        <p:tgtEl>
                                          <p:spTgt spid="2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293"/>
                                        </p:tgtEl>
                                        <p:attrNameLst>
                                          <p:attrName>style.visibility</p:attrName>
                                        </p:attrNameLst>
                                      </p:cBhvr>
                                      <p:to>
                                        <p:strVal val="visible"/>
                                      </p:to>
                                    </p:set>
                                    <p:animEffect filter="barn(inHorizontal)" transition="in">
                                      <p:cBhvr additive="repl">
                                        <p:cTn id="38" dur="500"/>
                                        <p:tgtEl>
                                          <p:spTgt spid="2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294"/>
                                        </p:tgtEl>
                                        <p:attrNameLst>
                                          <p:attrName>style.visibility</p:attrName>
                                        </p:attrNameLst>
                                      </p:cBhvr>
                                      <p:to>
                                        <p:strVal val="visible"/>
                                      </p:to>
                                    </p:set>
                                    <p:animEffect filter="barn(inHorizontal)" transition="in">
                                      <p:cBhvr additive="repl">
                                        <p:cTn id="43" dur="500"/>
                                        <p:tgtEl>
                                          <p:spTgt spid="2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295"/>
                                        </p:tgtEl>
                                        <p:attrNameLst>
                                          <p:attrName>style.visibility</p:attrName>
                                        </p:attrNameLst>
                                      </p:cBhvr>
                                      <p:to>
                                        <p:strVal val="visible"/>
                                      </p:to>
                                    </p:set>
                                    <p:animEffect filter="barn(inHorizontal)" transition="in">
                                      <p:cBhvr additive="repl">
                                        <p:cTn id="48" dur="500"/>
                                        <p:tgtEl>
                                          <p:spTgt spid="29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297"/>
                                        </p:tgtEl>
                                        <p:attrNameLst>
                                          <p:attrName>style.visibility</p:attrName>
                                        </p:attrNameLst>
                                      </p:cBhvr>
                                      <p:to>
                                        <p:strVal val="visible"/>
                                      </p:to>
                                    </p:set>
                                    <p:animEffect filter="barn(inHorizontal)" transition="in">
                                      <p:cBhvr additive="repl">
                                        <p:cTn id="53" dur="500"/>
                                        <p:tgtEl>
                                          <p:spTgt spid="29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6">
                                  <p:stCondLst>
                                    <p:cond delay="0"/>
                                  </p:stCondLst>
                                  <p:childTnLst>
                                    <p:set>
                                      <p:cBhvr>
                                        <p:cTn id="57" dur="1" fill="hold">
                                          <p:stCondLst>
                                            <p:cond delay="0"/>
                                          </p:stCondLst>
                                        </p:cTn>
                                        <p:tgtEl>
                                          <p:spTgt spid="296"/>
                                        </p:tgtEl>
                                        <p:attrNameLst>
                                          <p:attrName>style.visibility</p:attrName>
                                        </p:attrNameLst>
                                      </p:cBhvr>
                                      <p:to>
                                        <p:strVal val="visible"/>
                                      </p:to>
                                    </p:set>
                                    <p:animEffect filter="barn(inHorizontal)" transition="in">
                                      <p:cBhvr additive="repl">
                                        <p:cTn id="58" dur="500"/>
                                        <p:tgtEl>
                                          <p:spTgt spid="29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298"/>
                                        </p:tgtEl>
                                        <p:attrNameLst>
                                          <p:attrName>style.visibility</p:attrName>
                                        </p:attrNameLst>
                                      </p:cBhvr>
                                      <p:to>
                                        <p:strVal val="visible"/>
                                      </p:to>
                                    </p:set>
                                    <p:animEffect filter="barn(inHorizontal)" transition="in">
                                      <p:cBhvr additive="repl">
                                        <p:cTn id="63" dur="500"/>
                                        <p:tgtEl>
                                          <p:spTgt spid="2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99"/>
                                        </p:tgtEl>
                                        <p:attrNameLst>
                                          <p:attrName>style.visibility</p:attrName>
                                        </p:attrNameLst>
                                      </p:cBhvr>
                                      <p:to>
                                        <p:strVal val="visible"/>
                                      </p:to>
                                    </p:set>
                                    <p:animEffect filter="strips(downLeft)" transition="in">
                                      <p:cBhvr additive="repl">
                                        <p:cTn id="6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9T18:03:37Z</dcterms:created>
  <dc:creator>brien</dc:creator>
  <dc:description/>
  <dc:language>en-US</dc:language>
  <cp:lastModifiedBy>ElliotLe</cp:lastModifiedBy>
  <dcterms:modified xsi:type="dcterms:W3CDTF">2008-02-22T18:05:19Z</dcterms:modified>
  <cp:revision>43</cp:revision>
  <dc:subject/>
  <dc:title>PowerPoint Presentation</dc:title>
</cp:coreProperties>
</file>